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C30-9095-4A46-B628-5D0747C9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725-05CA-4E44-9FE6-CD09AB55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8E6-1BA5-48DC-9C83-1AE48898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B56-9C56-4F5D-A796-0AA2DA71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082-2E91-4F39-BCD1-553DF96D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D0B-E75F-4F88-8176-22AA55CA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BC1-5E3B-40A8-A9E9-F207E82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B95-AB3F-48E0-9C85-D705B5A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8B2-18FE-4E6A-83E5-E53FD57F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673-9C82-4367-A09C-2EA34E9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F1E-D555-467A-80A8-B40797E4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343-4A21-4275-AFD2-C3A90B0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999-CB8E-4A82-9DDC-A49A307F55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341000"/>
            <a:ext cx="79599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量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身長、テストの点数、お菓子の価格、家から学校までの所要時間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ｍ走の記録、大気中の窒素酸化物の量、血圧、気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質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統計検定の級、好き嫌い、出身県、天気、職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19:28Z</dcterms:created>
  <dc:creator>Matsumoto Chieko</dc:creator>
  <dc:description/>
  <dc:language>en-US</dc:language>
  <cp:lastModifiedBy>Matsumoto Chieko</cp:lastModifiedBy>
  <dcterms:modified xsi:type="dcterms:W3CDTF">2018-06-19T06:19:58Z</dcterms:modified>
  <cp:revision>1</cp:revision>
  <dc:subject/>
  <dc:title>小テスト</dc:title>
</cp:coreProperties>
</file>