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835-6498-4E17-AC21-56405C31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FF0-1CA2-459E-B401-F49EBE33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E83-B9D5-419A-95AC-86C7B645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B57-E030-46BF-B1D7-C918DF18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625-E3BE-480F-8C97-465B24FA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EDE-DE17-4032-9322-DB6764CB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2201-4E5E-4708-B395-AAE0CF19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048-6C33-4715-83E2-358A8E3E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9A6-6483-4E84-8C68-A96C06D7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537-368C-462D-A1AF-8083D633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F4A-1059-43FB-A303-EEB7F1F4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A44-61FC-4B28-885F-527AB120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E5BC-4F8D-4E7E-8BC3-47069DF991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平均の計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度数分布表からの平均の計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　解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1"/>
          <p:cNvSpPr/>
          <p:nvPr/>
        </p:nvSpPr>
        <p:spPr>
          <a:xfrm>
            <a:off x="539640" y="227664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全体の平均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.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+156+158+162+154+152+151+167=12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50÷8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.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解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図 3" descr="txp_fig.png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26146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609480" y="464832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級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度数の計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度数分布表からの平均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6.75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9T06:20:13Z</dcterms:created>
  <dc:creator>Matsumoto Chieko</dc:creator>
  <dc:description/>
  <dc:language>en-US</dc:language>
  <cp:lastModifiedBy>Matsumoto Chieko</cp:lastModifiedBy>
  <dcterms:modified xsi:type="dcterms:W3CDTF">2018-06-19T06:20:36Z</dcterms:modified>
  <cp:revision>1</cp:revision>
  <dc:subject/>
  <dc:title>小テスト</dc:title>
</cp:coreProperties>
</file>