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226-0658-4AC5-A8BC-D5833A88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916-98AF-4462-A5CC-342640FB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58D-A524-4A3E-945E-F6E4B2C7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F1A-B8DA-4F5E-B6F8-6073A48D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3AA-4C88-4F0E-A961-0420939C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B99-8404-4E84-906A-E759E52B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DA9-A0B3-49DB-9279-305AA676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594-0AFE-4AA6-8C31-E76E6FE5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ED6-E3D9-4567-97F7-3DF0EEC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4B8-5D88-4FEB-9E91-71CEDF62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37D-A810-4617-9B37-5039B6AA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ABA-8513-4BA7-BB0E-377560F3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B4809-EF9E-4CF2-8D12-0124DA7F3DD4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90360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平均と標準偏差、正規分布の例（小テスト１）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4842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さんは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限の授業に遅刻しないように、毎日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のバスに乗りたいと思っています。測ってみたところ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さんが朝起きて朝食を食べ、身支度をしてバス停に辿り着くまでの時間は、平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、標準偏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であるということが分かりました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さんは何時に起きれば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のバスに間に合うでしょう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平均と標準偏差、正規分布の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図 28" descr="21003.jpg"/>
          <p:cNvPicPr/>
          <p:nvPr/>
        </p:nvPicPr>
        <p:blipFill>
          <a:blip r:embed="rId1"/>
          <a:srcRect l="0" t="0" r="0" b="12978"/>
          <a:stretch/>
        </p:blipFill>
        <p:spPr>
          <a:xfrm>
            <a:off x="2116080" y="1341360"/>
            <a:ext cx="4911840" cy="3348000"/>
          </a:xfrm>
          <a:prstGeom prst="rect">
            <a:avLst/>
          </a:prstGeom>
          <a:ln w="0">
            <a:noFill/>
          </a:ln>
        </p:spPr>
      </p:pic>
      <p:sp>
        <p:nvSpPr>
          <p:cNvPr id="45" name="線吹き出し 1 (枠付き) 4"/>
          <p:cNvSpPr/>
          <p:nvPr/>
        </p:nvSpPr>
        <p:spPr>
          <a:xfrm>
            <a:off x="7380360" y="3014640"/>
            <a:ext cx="1079280" cy="630360"/>
          </a:xfrm>
          <a:prstGeom prst="borderCallout1">
            <a:avLst>
              <a:gd name="adj1" fmla="val 18750"/>
              <a:gd name="adj2" fmla="val -8333"/>
              <a:gd name="adj3" fmla="val 146351"/>
              <a:gd name="adj4" fmla="val -122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2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線吹き出し 1 (枠付き) 5"/>
          <p:cNvSpPr/>
          <p:nvPr/>
        </p:nvSpPr>
        <p:spPr>
          <a:xfrm>
            <a:off x="6300720" y="1336680"/>
            <a:ext cx="1079640" cy="630360"/>
          </a:xfrm>
          <a:prstGeom prst="borderCallout1">
            <a:avLst>
              <a:gd name="adj1" fmla="val 18750"/>
              <a:gd name="adj2" fmla="val -8333"/>
              <a:gd name="adj3" fmla="val 146351"/>
              <a:gd name="adj4" fmla="val -122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34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線吹き出し 1 (枠付き) 6"/>
          <p:cNvSpPr/>
          <p:nvPr/>
        </p:nvSpPr>
        <p:spPr>
          <a:xfrm>
            <a:off x="611280" y="2881440"/>
            <a:ext cx="1081080" cy="630000"/>
          </a:xfrm>
          <a:prstGeom prst="borderCallout1">
            <a:avLst>
              <a:gd name="adj1" fmla="val 18750"/>
              <a:gd name="adj2" fmla="val -8333"/>
              <a:gd name="adj3" fmla="val 170532"/>
              <a:gd name="adj4" fmla="val 23116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2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線吹き出し 1 (枠付き) 7"/>
          <p:cNvSpPr/>
          <p:nvPr/>
        </p:nvSpPr>
        <p:spPr>
          <a:xfrm>
            <a:off x="2484360" y="1201680"/>
            <a:ext cx="1079640" cy="630360"/>
          </a:xfrm>
          <a:prstGeom prst="borderCallout1">
            <a:avLst>
              <a:gd name="adj1" fmla="val 18750"/>
              <a:gd name="adj2" fmla="val -8333"/>
              <a:gd name="adj3" fmla="val 218893"/>
              <a:gd name="adj4" fmla="val 16202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34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線吹き出し 1 (枠付き) 8"/>
          <p:cNvSpPr/>
          <p:nvPr/>
        </p:nvSpPr>
        <p:spPr>
          <a:xfrm>
            <a:off x="1925640" y="2249640"/>
            <a:ext cx="1081080" cy="630000"/>
          </a:xfrm>
          <a:prstGeom prst="borderCallout1">
            <a:avLst>
              <a:gd name="adj1" fmla="val 18750"/>
              <a:gd name="adj2" fmla="val -8333"/>
              <a:gd name="adj3" fmla="val 218893"/>
              <a:gd name="adj4" fmla="val 16202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13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線吹き出し 1 (枠付き) 9"/>
          <p:cNvSpPr/>
          <p:nvPr/>
        </p:nvSpPr>
        <p:spPr>
          <a:xfrm>
            <a:off x="7596360" y="1976400"/>
            <a:ext cx="1296720" cy="630360"/>
          </a:xfrm>
          <a:prstGeom prst="borderCallout1">
            <a:avLst>
              <a:gd name="adj1" fmla="val 18750"/>
              <a:gd name="adj2" fmla="val -8333"/>
              <a:gd name="adj3" fmla="val 240657"/>
              <a:gd name="adj4" fmla="val -17237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13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0"/>
          <p:cNvSpPr/>
          <p:nvPr/>
        </p:nvSpPr>
        <p:spPr>
          <a:xfrm>
            <a:off x="435600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494028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12"/>
          <p:cNvSpPr/>
          <p:nvPr/>
        </p:nvSpPr>
        <p:spPr>
          <a:xfrm>
            <a:off x="558000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13"/>
          <p:cNvSpPr/>
          <p:nvPr/>
        </p:nvSpPr>
        <p:spPr>
          <a:xfrm>
            <a:off x="3780000" y="3654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14"/>
          <p:cNvSpPr/>
          <p:nvPr/>
        </p:nvSpPr>
        <p:spPr>
          <a:xfrm>
            <a:off x="313200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コンテンツ プレースホルダー 2"/>
          <p:cNvSpPr/>
          <p:nvPr/>
        </p:nvSpPr>
        <p:spPr>
          <a:xfrm>
            <a:off x="395280" y="4581360"/>
            <a:ext cx="8424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準備に掛かる時間は平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、標準偏差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7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4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に起きると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の確率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に間に合う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の確率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以内に準備が終わる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7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4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に起きれば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2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以内に準備が終わる確率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3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＝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なので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の確率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に間に合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２解答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スライド番号プレースホルダ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EB3F0-C3A3-4A0D-BC3C-9C94D90CFA72}" type="slidenum">
              <a:rPr b="0" lang="en-US" sz="1400" spc="-1" strike="noStrike">
                <a:solidFill>
                  <a:srgbClr val="44546a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387360" y="1389240"/>
            <a:ext cx="8229600" cy="846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905120" y="5450040"/>
            <a:ext cx="4952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Ｂ病院の方が確率が高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D:\shisato\授業\txp_fig.png"/>
          <p:cNvPicPr/>
          <p:nvPr/>
        </p:nvPicPr>
        <p:blipFill>
          <a:blip r:embed="rId2"/>
          <a:stretch/>
        </p:blipFill>
        <p:spPr>
          <a:xfrm>
            <a:off x="2438280" y="2219400"/>
            <a:ext cx="5824800" cy="88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D:\shisato\授業\txp_fig.png"/>
          <p:cNvPicPr/>
          <p:nvPr/>
        </p:nvPicPr>
        <p:blipFill>
          <a:blip r:embed="rId3"/>
          <a:stretch/>
        </p:blipFill>
        <p:spPr>
          <a:xfrm>
            <a:off x="762120" y="4149720"/>
            <a:ext cx="7480080" cy="8874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2"/>
          <p:cNvSpPr/>
          <p:nvPr/>
        </p:nvSpPr>
        <p:spPr>
          <a:xfrm>
            <a:off x="3581280" y="3357720"/>
            <a:ext cx="12956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グラフ 7" descr=""/>
          <p:cNvPicPr/>
          <p:nvPr/>
        </p:nvPicPr>
        <p:blipFill>
          <a:blip r:embed="rId1"/>
          <a:stretch/>
        </p:blipFill>
        <p:spPr>
          <a:xfrm>
            <a:off x="457200" y="2567160"/>
            <a:ext cx="8229600" cy="3814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グラフより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6920" y="1341360"/>
            <a:ext cx="763272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病院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4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病院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二等辺三角形 5"/>
          <p:cNvSpPr/>
          <p:nvPr/>
        </p:nvSpPr>
        <p:spPr>
          <a:xfrm>
            <a:off x="2419200" y="3716280"/>
            <a:ext cx="784440" cy="2089080"/>
          </a:xfrm>
          <a:prstGeom prst="triangle">
            <a:avLst>
              <a:gd name="adj" fmla="val 0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二等辺三角形 6"/>
          <p:cNvSpPr/>
          <p:nvPr/>
        </p:nvSpPr>
        <p:spPr>
          <a:xfrm>
            <a:off x="5364000" y="5157720"/>
            <a:ext cx="1008360" cy="684360"/>
          </a:xfrm>
          <a:prstGeom prst="triangle">
            <a:avLst>
              <a:gd name="adj" fmla="val 0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シミュレーションより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896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Excel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を利用し、男の子の割合を模擬的に繰り返し計算す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RAN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関数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IF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関数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COUNTIF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関数を使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繰り返し数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グラフ 5" descr=""/>
          <p:cNvPicPr/>
          <p:nvPr/>
        </p:nvPicPr>
        <p:blipFill>
          <a:blip r:embed="rId1"/>
          <a:stretch/>
        </p:blipFill>
        <p:spPr>
          <a:xfrm>
            <a:off x="433440" y="3754440"/>
            <a:ext cx="4138560" cy="2481120"/>
          </a:xfrm>
          <a:prstGeom prst="rect">
            <a:avLst/>
          </a:prstGeom>
          <a:ln w="0">
            <a:noFill/>
          </a:ln>
        </p:spPr>
      </p:pic>
      <p:pic>
        <p:nvPicPr>
          <p:cNvPr id="72" name="グラフ 6" descr=""/>
          <p:cNvPicPr/>
          <p:nvPr/>
        </p:nvPicPr>
        <p:blipFill>
          <a:blip r:embed="rId2"/>
          <a:stretch/>
        </p:blipFill>
        <p:spPr>
          <a:xfrm>
            <a:off x="4608360" y="3754440"/>
            <a:ext cx="4138920" cy="2481120"/>
          </a:xfrm>
          <a:prstGeom prst="rect">
            <a:avLst/>
          </a:prstGeom>
          <a:ln w="0">
            <a:noFill/>
          </a:ln>
        </p:spPr>
      </p:pic>
      <p:sp>
        <p:nvSpPr>
          <p:cNvPr id="73" name="直線コネクタ 8"/>
          <p:cNvSpPr/>
          <p:nvPr/>
        </p:nvSpPr>
        <p:spPr>
          <a:xfrm>
            <a:off x="3059280" y="3860640"/>
            <a:ext cx="0" cy="26640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線コネクタ 9"/>
          <p:cNvSpPr/>
          <p:nvPr/>
        </p:nvSpPr>
        <p:spPr>
          <a:xfrm>
            <a:off x="7236000" y="3860640"/>
            <a:ext cx="0" cy="26640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吹き出し: 角を丸めた四角形 10"/>
          <p:cNvSpPr/>
          <p:nvPr/>
        </p:nvSpPr>
        <p:spPr>
          <a:xfrm>
            <a:off x="1116000" y="2997360"/>
            <a:ext cx="3168720" cy="576000"/>
          </a:xfrm>
          <a:prstGeom prst="wedgeRoundRectCallout">
            <a:avLst>
              <a:gd name="adj1" fmla="val 22333"/>
              <a:gd name="adj2" fmla="val 141375"/>
              <a:gd name="adj3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60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以上の割合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1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吹き出し: 角を丸めた四角形 11"/>
          <p:cNvSpPr/>
          <p:nvPr/>
        </p:nvSpPr>
        <p:spPr>
          <a:xfrm>
            <a:off x="5435640" y="2997360"/>
            <a:ext cx="3168720" cy="576000"/>
          </a:xfrm>
          <a:prstGeom prst="wedgeRoundRectCallout">
            <a:avLst>
              <a:gd name="adj1" fmla="val 22333"/>
              <a:gd name="adj2" fmla="val 141375"/>
              <a:gd name="adj3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60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以上の割合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37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２解答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スライド番号プレースホルダ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B808B-91C7-46CF-84B1-FD8466CC3543}" type="slidenum">
              <a:rPr b="0" lang="en-US" sz="1400" spc="-1" strike="noStrike">
                <a:solidFill>
                  <a:srgbClr val="44546a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480960" y="1341360"/>
            <a:ext cx="8229600" cy="84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D:\shisato\授業\txp_fig.png"/>
          <p:cNvPicPr/>
          <p:nvPr/>
        </p:nvPicPr>
        <p:blipFill>
          <a:blip r:embed="rId2"/>
          <a:stretch/>
        </p:blipFill>
        <p:spPr>
          <a:xfrm>
            <a:off x="1905120" y="2187720"/>
            <a:ext cx="673092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:\shisato\授業\txp_fig.png"/>
          <p:cNvPicPr/>
          <p:nvPr/>
        </p:nvPicPr>
        <p:blipFill>
          <a:blip r:embed="rId3"/>
          <a:stretch/>
        </p:blipFill>
        <p:spPr>
          <a:xfrm>
            <a:off x="1066680" y="3141720"/>
            <a:ext cx="7035840" cy="2184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209680" y="5629320"/>
            <a:ext cx="4953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Ｂ病院の方が確率が高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03:22:21Z</dcterms:created>
  <dc:creator>Matsumoto Chieko</dc:creator>
  <dc:description/>
  <dc:language>en-US</dc:language>
  <cp:lastModifiedBy>Matsumoto Chieko</cp:lastModifiedBy>
  <dcterms:modified xsi:type="dcterms:W3CDTF">2018-07-24T03:54:10Z</dcterms:modified>
  <cp:revision>1</cp:revision>
  <dc:subject/>
  <dc:title>平均と標準偏差、正規分布の例（小テスト１）</dc:title>
</cp:coreProperties>
</file>