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834E-143E-4C03-B9DD-67DECD125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AD50-7A1C-4B23-9E15-12A0686D0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BC8B-BD1A-4F13-A2E2-544DE198A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F0DF-CD8A-4480-ADAA-4BEF2ADD7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B092-54A2-43B6-BAC6-378FA4359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7F93-2232-4CC7-971C-427178B0F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70C1-CBA7-4DE4-B965-7355E3544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8B90-11A6-4CAA-AE49-AA741A828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C48B-6087-4300-97F5-9672F7F54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3C80-7C96-4DBE-B4AF-46099D91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F7CD-7C49-45FB-BEE6-82B96C0E5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12BF-5A2A-447E-A116-201A76A9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76E57-8A43-44CC-852A-AD1D15B115C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小テスト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94920" y="1268280"/>
            <a:ext cx="85597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ある養魚場の池には大量のニジマスがいる。この池のニジマスの数を推定した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まず、池の中からニジマスを８０匹採取し、これらのニジマスに目印をつけて元の池に戻し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数日後、池の中からニジマスを６０匹採取したところ、その中に目印のついたニジマスが３匹いた（無作為抽出による標本調査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小テスト回答１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95280" y="1341360"/>
            <a:ext cx="8640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無作為抽出による標本調査につい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母集団：池にいるニジマス全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標本：６０匹のニジマ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標本の大きさ：６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６０匹のニジマスのうち３匹に印がついていたので、池全体のニジマスの数をｘとして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0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=x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0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が成り立つ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これを解いて、池全体のニジマスは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600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小テスト回答２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この方法でニジマスの数を予想するための条件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調査期間中に死んだ魚や新たに池に入った魚はいな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最初につけた目印は消えな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どのニジマスも採取される確率は同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19T06:38:00Z</dcterms:created>
  <dc:creator>Matsumoto Chieko</dc:creator>
  <dc:description/>
  <dc:language>en-US</dc:language>
  <cp:lastModifiedBy>Matsumoto Chieko</cp:lastModifiedBy>
  <dcterms:modified xsi:type="dcterms:W3CDTF">2018-06-19T06:38:21Z</dcterms:modified>
  <cp:revision>1</cp:revision>
  <dc:subject/>
  <dc:title>小テスト</dc:title>
</cp:coreProperties>
</file>