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AC07-0890-4E22-95A4-89E0FD4E2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963B-63C7-49B3-A728-BA53CB78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4619-3686-46BE-A775-4A5AFC5C9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F9D6-60FD-48E6-BBF3-092065018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ECBC-AFA9-4527-98FB-0A78EFB6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4A67-73A2-4812-A087-877E5A7B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5572-1F44-4F5A-BC38-415D340C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7834-9F06-46BA-861F-C169B9FD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DC67-1D4A-4A21-AFFA-D97B542E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C35B-507B-46C2-8624-25204271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86AF-2987-4A31-8301-6F86314E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56CA-000C-4E7C-92C2-22248F2D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8E99-4328-4DC7-806D-66D4E3D0DCA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小テス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4200" y="160020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全国から無作為抽出した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500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世帯について年間の米購入量を調査したところ、平均値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5kg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，標本標準偏差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8.0kg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であった。全国の１世帯あたりの平均米購入量を信頼係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5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％で推定せよ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小テスト解答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380880" y="3352680"/>
            <a:ext cx="685800" cy="381240"/>
          </a:xfrm>
          <a:prstGeom prst="rightArrow">
            <a:avLst>
              <a:gd name="adj1" fmla="val 50000"/>
              <a:gd name="adj2" fmla="val 4497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2" descr="D:\shisato\授業\txp_fig.png"/>
          <p:cNvPicPr/>
          <p:nvPr/>
        </p:nvPicPr>
        <p:blipFill>
          <a:blip r:embed="rId1"/>
          <a:stretch/>
        </p:blipFill>
        <p:spPr>
          <a:xfrm>
            <a:off x="336600" y="2290680"/>
            <a:ext cx="8470800" cy="297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D:\shisato\授業\txp_fig.png"/>
          <p:cNvPicPr/>
          <p:nvPr/>
        </p:nvPicPr>
        <p:blipFill>
          <a:blip r:embed="rId2"/>
          <a:stretch/>
        </p:blipFill>
        <p:spPr>
          <a:xfrm>
            <a:off x="1549440" y="3203640"/>
            <a:ext cx="7035840" cy="780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D:\shisato\授業\txp_fig.png"/>
          <p:cNvPicPr/>
          <p:nvPr/>
        </p:nvPicPr>
        <p:blipFill>
          <a:blip r:embed="rId3"/>
          <a:stretch/>
        </p:blipFill>
        <p:spPr>
          <a:xfrm>
            <a:off x="1600200" y="4419720"/>
            <a:ext cx="4114800" cy="368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D:\shisato\授業\txp_fig.png"/>
          <p:cNvPicPr/>
          <p:nvPr/>
        </p:nvPicPr>
        <p:blipFill>
          <a:blip r:embed="rId4"/>
          <a:stretch/>
        </p:blipFill>
        <p:spPr>
          <a:xfrm>
            <a:off x="1600200" y="5334120"/>
            <a:ext cx="328464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9T06:38:34Z</dcterms:created>
  <dc:creator>Matsumoto Chieko</dc:creator>
  <dc:description/>
  <dc:language>en-US</dc:language>
  <cp:lastModifiedBy>Matsumoto Chieko</cp:lastModifiedBy>
  <dcterms:modified xsi:type="dcterms:W3CDTF">2018-06-19T06:39:06Z</dcterms:modified>
  <cp:revision>1</cp:revision>
  <dc:subject/>
  <dc:title>小テスト</dc:title>
</cp:coreProperties>
</file>