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894-667F-4A45-ACB5-F230CEB3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6BF-8761-49ED-AA0D-07681A76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BFD-79E3-40DA-9EC5-30A8552A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A31-A770-4DDF-9939-E3EE0E1C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24A-0745-49BA-87DF-ED494E21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60D-0FB5-4625-A5EA-D5DDE272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273-4EF3-4BA7-B3D6-CD73D8E2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A60-3E2C-4462-AE64-9CAE9A49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942-90C7-4CD7-A185-2FA61C5D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4744-4CBB-4C7E-A718-9EB1DD6C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618-7C24-4E32-9E33-2D1C1C55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090-225C-4C6D-A15B-A5C19587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AEF6-32FA-4985-8639-D73CC02B9B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相関係数の計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散布図の作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解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71680" y="2214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相関係数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0.54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グラフ 4" descr=""/>
          <p:cNvPicPr/>
          <p:nvPr/>
        </p:nvPicPr>
        <p:blipFill>
          <a:blip r:embed="rId1"/>
          <a:stretch/>
        </p:blipFill>
        <p:spPr>
          <a:xfrm>
            <a:off x="3333600" y="1700280"/>
            <a:ext cx="551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9T06:22:01Z</dcterms:created>
  <dc:creator>Matsumoto Chieko</dc:creator>
  <dc:description/>
  <dc:language>en-US</dc:language>
  <cp:lastModifiedBy>Matsumoto Chieko</cp:lastModifiedBy>
  <dcterms:modified xsi:type="dcterms:W3CDTF">2018-06-19T06:22:28Z</dcterms:modified>
  <cp:revision>1</cp:revision>
  <dc:subject/>
  <dc:title>小テスト１</dc:title>
</cp:coreProperties>
</file>