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699-5CFF-4746-963E-BF819700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00B-E284-474E-9E80-DFC41AE1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521-BD81-4868-A586-37230CB7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D14D-331C-48A9-88AB-0F7117DC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324-9627-45D0-BC43-F84AD49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9A3-CB4D-4E98-99DF-5BD1845B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53D-1984-4FF3-AB2D-89AD3EDF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E302-798E-444B-ACD8-48525052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761B-2A97-40C5-9C8D-A7F68DE6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D67-5BB3-4FBA-BAAC-688BE4FB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B31-2626-4C9A-B2ED-C3D33E6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4D4-56D9-4C8D-96EC-19DD3C97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477E62-1219-4496-B3E9-9C950F5C51D7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826560" y="1341000"/>
            <a:ext cx="79599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量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身長、テストの点数、お菓子の価格、家から学校までの所要時間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ｍ走の記録、大気中の窒素酸化物の量、血圧、気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質的デー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統計検定の級、好き嫌い、出身県、天気、職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06:04Z</dcterms:created>
  <dc:creator>Matsumoto Chieko</dc:creator>
  <dc:description/>
  <dc:language>en-US</dc:language>
  <cp:lastModifiedBy>Matsumoto Chieko</cp:lastModifiedBy>
  <dcterms:modified xsi:type="dcterms:W3CDTF">2019-03-18T06:06:31Z</dcterms:modified>
  <cp:revision>1</cp:revision>
  <dc:subject/>
  <dc:title>小テスト</dc:title>
</cp:coreProperties>
</file>