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F6C4-D4FC-4256-ACE4-9EFD2E39B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7FD9-67DE-47B1-B74C-078DC5E7732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022A-05C3-4E78-95FB-E62CA1BC4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教科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p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6517-F4D5-454D-8639-DCEF454CC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590÷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2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http://d.hatena.ne.jp/Chikirin/200911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1842-4BDD-4C4F-B280-A752A77B7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15D0-7092-4185-B861-B59657E53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教科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p26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59AD-9934-4D12-A04A-3DF54D2A6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データが小さいときは結構役に立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明朝"/>
            </a:endParaRPr>
          </a:p>
        </p:txBody>
      </p:sp>
      <p:sp>
        <p:nvSpPr>
          <p:cNvPr id="581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6133-CAD5-4649-80B7-2221AC79E0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四分位値の定義からいくと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XCEL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のやり方の方が正しいような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…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E1EE-EA32-4489-8A64-E1520CC083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ヒンジを使う向きもあ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B60D-1C4A-4D4E-9E67-A2A0BB408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位範囲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2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、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倍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8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上側限界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2.12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、下側限界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3.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6FA7-F1F3-4C98-B4C7-4792E606D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明朝"/>
            </a:endParaRPr>
          </a:p>
        </p:txBody>
      </p:sp>
      <p:sp>
        <p:nvSpPr>
          <p:cNvPr id="593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7847-214E-4651-A34B-5083E08D3C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左：東京、右：那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CFA7-B862-4A07-B618-3C07F5AAE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8105-B80D-4C1A-979F-7148EE061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明朝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7E41-AE28-4310-9FE4-04AC0A4BB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分散は２乗しているから平方根をとって標準偏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7A4A-037B-4C01-8422-EDE1887C7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１０の２倍は２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C50B-6CC4-4765-A6F4-2E884365D8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BC4-0011-4230-8BF7-6EC1B12E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69B-E6B2-434C-8015-009E597B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68A-933E-4D49-B5EF-E0EFE106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771-9424-490A-A475-429CD046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C1C9-7A28-4761-A815-2953B297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A4AE-7CCA-4268-9038-277B5A00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11E4-EECA-471B-8B46-FA2339C3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F428-D97E-44D3-A2C2-A7B2D1FA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6853-B856-4D20-9484-8ECEAF22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7ABC-F954-469F-8627-3E814512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190B-569E-4B66-B684-E169A61B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72D-A812-453E-9078-BCEFDA12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AF08-D767-4809-B586-1C1EC10E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8EDF-3371-4CE0-8998-C70DE110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95C6-397C-44D6-AC52-F0839F7D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48A1-A119-4D9D-A2E0-B3187D9B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1C0D-87FB-463E-9FE3-A012BB04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3CAA1-E7C6-4F6B-91C0-E1E9966C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C30F-2F48-49F7-8B45-9DFA14DA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4536A-4F19-427A-BBE7-0AE81C1A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59D69-8779-43F6-9D6A-8F2C53D1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CE04-9364-46F3-8CAC-B7382694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0A2-3D76-486D-8B79-A9A97DE9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1A8D0-B400-4830-8B9A-037E6F91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24C4A-F746-4D1A-8BBB-B69035BD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F4E3-439B-4956-B8C9-33651458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A2556-D637-4811-B54E-32AC53F7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3D794-CE71-49E4-924A-F3D73A5B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CC76F-B986-44E2-9EE4-AB936967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D4AD-27A3-4C2E-A02C-38A44A17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B567A-762E-46BD-B7AA-0DAE81EC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B8D65-BF64-44C9-A57D-EA5AC9B7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8947A-C424-4CA3-AEC1-A617DA09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056-7C05-42EC-B20D-BC883965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251B0-18FC-4004-BA8C-A22C6026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FAC64-80BA-424A-B967-DA6F423E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FF8CD-FD92-4CA0-AB13-F3A15BDB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4445B-DB90-4BBD-ABF3-3ACEB3EC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B80DD-A006-48CB-8C94-EAD514A0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0A31E-689A-4496-8DB0-C119BFDE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A46AF-9D60-4E85-86B2-249280AF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EA1A1-8B6F-4D73-9991-3F461196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15947-2213-490F-9B04-4437193D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0A1AC-CF9D-4863-AD67-24E0D663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168-FED6-4EC0-B37A-B6940FF8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92323-B8D0-4BFB-ACE4-0E6CBB11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FEE0F-3294-43D6-B7E6-FD8F39F4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0FA56-0F72-4674-96E9-A60D0885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0B9DC-206F-48E0-A8A1-47204F77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218F7-D339-4847-9398-92018FFE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F0331-0C3A-4D89-873A-AE2D7A49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3E0DA-8B9E-45ED-9B87-0B9B0306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48F3A-984E-4173-8A5A-5126FAD9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41F7A-E33E-475F-89ED-98FDEA5F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12215-7FE5-427B-9F49-7F6356A7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A80-6280-4E7D-A159-B406403C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608D1-DEF1-4BE1-BFDD-65AC662E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3F52E-08DF-4123-8081-3358A628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8FC13-C2F0-4CF2-9BAB-75D8AB06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9871E-FF06-40A3-BE65-EBDA43A4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3C3CB-58E5-47C8-8C4B-74FC1F00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DC2CE-15C0-47B9-BD19-136ADB00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724AB-0762-447F-949D-82C12874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2469D-D311-42B6-A622-62A440D4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13FD1-2908-4722-80C4-AD47643E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BC658-79FA-4455-A8BB-E152ED66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8EF-5A73-4ED3-A6F8-687B708E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09FB0-6DBE-4655-A4BE-26921F55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C6267-843E-43A7-BC87-1817D284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AC6B5-04BF-444F-AD40-20BB09D1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3BDAE-1E05-4A40-8327-6FA73517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2CB18-673C-460F-92CF-F909D124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C11CB-A329-4C5D-A299-437019E0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BF269-D426-4B4C-8004-6986408B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6C5F2-E6B4-478B-868E-4EE58E54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F55D5-F814-4A38-A242-52CDD426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458C0-240E-4AFE-B73E-D78EBABE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FD4-471C-4EFA-AA00-97167741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9D95E-78CC-45D1-B667-F3DD0BCB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F88A8-A89E-455A-A9C3-129F9C10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F9922-2A39-4B27-9813-FF41A906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00DE3-38AE-4976-8D58-40B530CF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4DE77-A6DA-45BE-A3AA-603D03CD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84DCF-E8B6-4289-A367-54680B8D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B1E81-D0A7-4350-85C9-CF96EDFC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A4D13-5FE5-470A-B089-CF09D182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CAA61-840F-42AB-A82C-C4A2D808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BF1E1-1606-42CF-A428-EDC19E12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D4D-87A4-451F-9756-C7C2FF43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8F7D4-1EA6-4E35-AD68-989D63D3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1EEA4-5EA4-46F7-A693-2C39EBEF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B40BA-97FC-4846-8BDD-2C5746A1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370B1-0BD3-4786-89AE-08A16D07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DC745-A9C8-42AA-A72C-A1DFEB2D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18F4C-1C67-40ED-BE85-8598B378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CB62B-6CC0-4276-AFEE-2418B500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A588-C44C-4E67-BA23-8BB06F14F8E9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268C-09BD-4313-AF1B-DB6E5D95DA1D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3ded1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D869-749F-4AC2-8980-BB020509B21D}" type="slidenum">
              <a:rPr b="0" lang="en-US" sz="14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12C4-2980-4097-B8F1-FF9DF4507C03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C7B1-9C64-4508-9F5E-31C9DBDEC005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27A2-2FDF-46C0-A1A3-761F2D64504F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3ded1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5C64-3481-4559-BB87-0FB62BB6835E}" type="slidenum">
              <a:rPr b="0" lang="en-US" sz="14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16DD-6D3D-4F02-BEC2-A2D57FDD5D68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統計学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23232"/>
                </a:solidFill>
                <a:latin typeface="ＭＳ Ｐゴシック"/>
              </a:rPr>
              <a:t>第２回　統計の基礎２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の性質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99640" y="1341000"/>
            <a:ext cx="80550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が左右対称である場合、その対称軸の通る点が平均値にな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極端に外れている値があると、平均値はその値に「引っ張られて」しまう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平均＝データを平らに均した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と最頻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642680"/>
            <a:ext cx="86500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：データを小さい順に並べたときに丁度真ん中にくる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最頻値：最も重い頻度で出てくる（階級の度数が高い）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6" descr="D:\shisato\授業\txp_fig.png"/>
          <p:cNvPicPr/>
          <p:nvPr/>
        </p:nvPicPr>
        <p:blipFill>
          <a:blip r:embed="rId1"/>
          <a:stretch/>
        </p:blipFill>
        <p:spPr>
          <a:xfrm>
            <a:off x="357120" y="4071960"/>
            <a:ext cx="8458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図 7" descr="20100323-00001819-r25-001-1-view.jpg"/>
          <p:cNvPicPr/>
          <p:nvPr/>
        </p:nvPicPr>
        <p:blipFill>
          <a:blip r:embed="rId1"/>
          <a:stretch/>
        </p:blipFill>
        <p:spPr>
          <a:xfrm>
            <a:off x="928800" y="2071800"/>
            <a:ext cx="7500960" cy="45543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例（平均値、中央値、最頻値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曲線（度数折れ線）と代表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26560" y="1219320"/>
            <a:ext cx="7859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平均値：度数分布曲線の重心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重心</a:t>
            </a:r>
            <a:r>
              <a:rPr b="0" lang="en-US" sz="2500" spc="-1" strike="noStrike">
                <a:solidFill>
                  <a:srgbClr val="323232"/>
                </a:solidFill>
                <a:latin typeface="Gill Sans MT"/>
              </a:rPr>
              <a:t>:</a:t>
            </a: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度数分布曲線を厚紙に書き写して切ったものを作成したときに、厚紙の釣り合いがとれる場所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中央値：度数分布曲線と横軸とで囲まれた部分の面積を考えたとき、面積をちょうど半分にする縦線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最頻値：山の頂上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の利用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1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40DE-7A56-4032-9D0F-50B8DDF190FF}" type="slidenum">
              <a:rPr b="0" lang="ja-JP" sz="1400" spc="-1" strike="noStrike">
                <a:solidFill>
                  <a:srgbClr val="3232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94920" y="1413000"/>
            <a:ext cx="8319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相対的貧困率：所得の</a:t>
            </a:r>
            <a:r>
              <a:rPr b="0" lang="ja-JP" sz="3600" spc="-1" strike="noStrike">
                <a:solidFill>
                  <a:srgbClr val="ff0000"/>
                </a:solidFill>
                <a:latin typeface="Gill Sans MT"/>
              </a:rPr>
              <a:t>中央値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の半分以下の所得しかない世帯の割合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所得＝可処分所得（実際に使える金額）を世帯の人数に応じて調整した額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中央値を使うことで、異常な値の影響を避ける効果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但し、中央値を使う場合、</a:t>
            </a:r>
            <a:r>
              <a:rPr b="0" lang="ja-JP" sz="3200" spc="-1" strike="noStrike" u="sng">
                <a:solidFill>
                  <a:srgbClr val="323232"/>
                </a:solidFill>
                <a:uFillTx/>
                <a:latin typeface="Gill Sans MT"/>
              </a:rPr>
              <a:t>中間層が崩壊すると相対的貧困率は改善される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という弱点があ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相対的貧困率の計算あれこれ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2560" y="1268280"/>
            <a:ext cx="892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トップ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割が金持ち国”の場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2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その半分が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貧困率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下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割が貧乏人国”の場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6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3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その半分が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貧困率は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2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3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の人の給料を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2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上げるか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と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6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の人を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にすれば、相対的貧困率は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になる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平均を計算す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階級値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度数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÷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総数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平均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但し、生データから計算した平均値と、度数分布表から計算した平均値は若干ずれ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度数分布表はデータの縮約の結果なので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でもまあ、実用に耐えうる範囲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平均の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398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1295280" y="1905120"/>
            <a:ext cx="4902480" cy="26924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4"/>
          <p:cNvSpPr/>
          <p:nvPr/>
        </p:nvSpPr>
        <p:spPr>
          <a:xfrm>
            <a:off x="533520" y="5029200"/>
            <a:ext cx="8076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級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度数の計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6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度数分布表からの平均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7.7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6324480" y="2971800"/>
            <a:ext cx="2590920" cy="2286000"/>
          </a:xfrm>
          <a:prstGeom prst="wedgeRectCallout">
            <a:avLst>
              <a:gd name="adj1" fmla="val -92097"/>
              <a:gd name="adj2" fmla="val 50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階級の中に入っているデータは全て階級値の値であるとみて計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順序統計量と箱ひげ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順序統計量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09480" y="1557360"/>
            <a:ext cx="83455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、値の小さい順に並べたときの統計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大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小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四分位値（四分位数）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レンジ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四分位範囲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授業内容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平均・中央値・最頻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順序統計量と箱ひげ図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分散と標準偏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レンジ（範囲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05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1763640" y="1628640"/>
            <a:ext cx="5105520" cy="5605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1476360" y="2421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が分布する幅を表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304920" y="364500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計算が楽なので、データが小さい時は分散の代わりとして役に立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、最大値と最小値以外のデータは無視することになるので、データが大きい時に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560" y="1557360"/>
            <a:ext cx="845820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：データを小さい順に並べたときに丁度真ん中にくる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もちろん、「大きい順に並べたときに丁度真ん中にくる値」でも可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410" name="Picture 4" descr="D:\shisato\授業\txp_fig.png"/>
          <p:cNvPicPr/>
          <p:nvPr/>
        </p:nvPicPr>
        <p:blipFill>
          <a:blip r:embed="rId1"/>
          <a:stretch/>
        </p:blipFill>
        <p:spPr>
          <a:xfrm>
            <a:off x="457200" y="4572000"/>
            <a:ext cx="8458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四分位値（四分位数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0920" y="1268280"/>
            <a:ext cx="8678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値（四分位数）：データを小さい順に並べ、</a:t>
            </a:r>
            <a:r>
              <a:rPr b="0" lang="ja-JP" sz="3200" spc="-1" strike="noStrike">
                <a:solidFill>
                  <a:srgbClr val="ff0000"/>
                </a:solidFill>
                <a:latin typeface="Gill Sans MT"/>
              </a:rPr>
              <a:t>四等分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したとき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３（上側）四分位値：中央値で２つに分けたデータの、上半分の中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１（下側）四分位値：中央値で２つに分けたデータの、下半分の中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範囲：第３（上側）四分位値と第１（下側）四分位値の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2802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五数要約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79280" y="1267920"/>
            <a:ext cx="864072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五数要約：最小値、第１四分位数、中央値、第３四分位数、最小値の５つの統計量でデータを説明するこ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最小値：一番小さい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最大値：一番大きい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範囲：最大値－最小値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中央値：データを小さい順に並べたときに真ん中にくる値（第２四分位数）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四分位数：データを小さい順に並べ、</a:t>
            </a:r>
            <a:r>
              <a:rPr b="1" lang="ja-JP" sz="2500" spc="-1" strike="noStrike">
                <a:solidFill>
                  <a:srgbClr val="ff0000"/>
                </a:solidFill>
                <a:latin typeface="Gill Sans MT"/>
              </a:rPr>
              <a:t>四等分</a:t>
            </a: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したときの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第１四分位数：中央値で２つに分けたデータの、下半分の中央値（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5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第３四分位数：中央値で２つに分けたデータの、上半分の中央値（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75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四分位範囲：第３（上側）四分位数と第１（下側）四分位数との差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四分位偏差：四分位範囲の半分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13916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高校の教科書で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22360" y="1413000"/>
            <a:ext cx="83692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データの個数が偶数個の場合、中央値で２つのグループに分け、それぞれのグループの中央値を四分位値にす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データの個数が奇数個の場合、中央値を除外して２つのグループに分け、それぞれのグループの中央値を四分位値にす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7" name="図 1" descr=""/>
          <p:cNvPicPr/>
          <p:nvPr/>
        </p:nvPicPr>
        <p:blipFill>
          <a:blip r:embed="rId1"/>
          <a:stretch/>
        </p:blipFill>
        <p:spPr>
          <a:xfrm>
            <a:off x="1979640" y="3429000"/>
            <a:ext cx="54529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EXCEL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による四分位値の計算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755280" y="1277640"/>
            <a:ext cx="820908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１（下側）四分位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QUAR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1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PERCEN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0.25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３（上側）四分位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QUAR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3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PERCEN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0.75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420" name="Picture 6" descr="D:\shisato\授業\txp_fig.png"/>
          <p:cNvPicPr/>
          <p:nvPr/>
        </p:nvPicPr>
        <p:blipFill>
          <a:blip r:embed="rId1"/>
          <a:stretch/>
        </p:blipFill>
        <p:spPr>
          <a:xfrm>
            <a:off x="1187280" y="4076640"/>
            <a:ext cx="6856560" cy="2158920"/>
          </a:xfrm>
          <a:prstGeom prst="rect">
            <a:avLst/>
          </a:prstGeom>
          <a:ln w="0">
            <a:noFill/>
          </a:ln>
        </p:spPr>
      </p:pic>
      <p:sp>
        <p:nvSpPr>
          <p:cNvPr id="421" name="角丸四角形吹き出し 1"/>
          <p:cNvSpPr/>
          <p:nvPr/>
        </p:nvSpPr>
        <p:spPr>
          <a:xfrm>
            <a:off x="5364000" y="2637000"/>
            <a:ext cx="3672000" cy="1008000"/>
          </a:xfrm>
          <a:prstGeom prst="wedgeRoundRectCallout">
            <a:avLst>
              <a:gd name="adj1" fmla="val -25541"/>
              <a:gd name="adj2" fmla="val 10518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パーセント点の計算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合わせ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74280" y="404640"/>
            <a:ext cx="77202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EXCEL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と数学</a:t>
            </a: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I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での４分位の違い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23" name="図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105080" cy="2089080"/>
          </a:xfrm>
          <a:prstGeom prst="rect">
            <a:avLst/>
          </a:prstGeom>
          <a:ln w="0">
            <a:noFill/>
          </a:ln>
        </p:spPr>
      </p:pic>
      <p:pic>
        <p:nvPicPr>
          <p:cNvPr id="424" name="図 5" descr=""/>
          <p:cNvPicPr/>
          <p:nvPr/>
        </p:nvPicPr>
        <p:blipFill>
          <a:blip r:embed="rId2"/>
          <a:stretch/>
        </p:blipFill>
        <p:spPr>
          <a:xfrm>
            <a:off x="644400" y="3933720"/>
            <a:ext cx="4037040" cy="20512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971960" y="1773000"/>
            <a:ext cx="31291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上：数学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下：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C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パーセント点（パーセンタイル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23640" y="1413000"/>
            <a:ext cx="86310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小さい順に並べた時、その値よりも小さな値の割合が指定された割合になる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：その値より小さいデータが全体の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になる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＝中央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＝最小値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=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大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上側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位値＝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7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、下側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位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=2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とパーセント点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2133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累積相対度数を用いると、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分位値がどこにあるかが分か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図 3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6591240" cy="2376720"/>
          </a:xfrm>
          <a:prstGeom prst="rect">
            <a:avLst/>
          </a:prstGeom>
          <a:ln w="0">
            <a:noFill/>
          </a:ln>
        </p:spPr>
      </p:pic>
      <p:sp>
        <p:nvSpPr>
          <p:cNvPr id="431" name="角丸四角形吹き出し 4"/>
          <p:cNvSpPr/>
          <p:nvPr/>
        </p:nvSpPr>
        <p:spPr>
          <a:xfrm>
            <a:off x="6770520" y="4795920"/>
            <a:ext cx="2194200" cy="396720"/>
          </a:xfrm>
          <a:prstGeom prst="wedgeRoundRectCallout">
            <a:avLst>
              <a:gd name="adj1" fmla="val -76023"/>
              <a:gd name="adj2" fmla="val -9953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中央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角丸四角形吹き出し 5"/>
          <p:cNvSpPr/>
          <p:nvPr/>
        </p:nvSpPr>
        <p:spPr>
          <a:xfrm>
            <a:off x="6770520" y="5345280"/>
            <a:ext cx="2194200" cy="395280"/>
          </a:xfrm>
          <a:prstGeom prst="wedgeRoundRectCallout">
            <a:avLst>
              <a:gd name="adj1" fmla="val -74333"/>
              <a:gd name="adj2" fmla="val -103555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上側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分位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角丸四角形吹き出し 6"/>
          <p:cNvSpPr/>
          <p:nvPr/>
        </p:nvSpPr>
        <p:spPr>
          <a:xfrm>
            <a:off x="6770520" y="4255920"/>
            <a:ext cx="2194200" cy="397080"/>
          </a:xfrm>
          <a:prstGeom prst="wedgeRoundRectCallout">
            <a:avLst>
              <a:gd name="adj1" fmla="val -77712"/>
              <a:gd name="adj2" fmla="val 77407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下側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分位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角丸四角形吹き出し 7"/>
          <p:cNvSpPr/>
          <p:nvPr/>
        </p:nvSpPr>
        <p:spPr>
          <a:xfrm>
            <a:off x="6794640" y="3608280"/>
            <a:ext cx="2193840" cy="395280"/>
          </a:xfrm>
          <a:prstGeom prst="wedgeRoundRectCallout">
            <a:avLst>
              <a:gd name="adj1" fmla="val -65884"/>
              <a:gd name="adj2" fmla="val 46208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小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角丸四角形吹き出し 8"/>
          <p:cNvSpPr/>
          <p:nvPr/>
        </p:nvSpPr>
        <p:spPr>
          <a:xfrm>
            <a:off x="6794640" y="6056280"/>
            <a:ext cx="2193840" cy="397080"/>
          </a:xfrm>
          <a:prstGeom prst="wedgeRoundRectCallout">
            <a:avLst>
              <a:gd name="adj1" fmla="val -87847"/>
              <a:gd name="adj2" fmla="val -75476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大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グラフ 11" descr=""/>
          <p:cNvPicPr/>
          <p:nvPr/>
        </p:nvPicPr>
        <p:blipFill>
          <a:blip r:embed="rId1"/>
          <a:stretch/>
        </p:blipFill>
        <p:spPr>
          <a:xfrm>
            <a:off x="2895480" y="2706840"/>
            <a:ext cx="5658120" cy="36748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280" y="23400"/>
            <a:ext cx="7597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累積相対度数で度数折れ線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4360" y="1412640"/>
            <a:ext cx="77104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累積相対度数で度数折れ線を描く→四分位数、パーセント点がどの辺りにあるか分か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楕円 4"/>
          <p:cNvSpPr/>
          <p:nvPr/>
        </p:nvSpPr>
        <p:spPr>
          <a:xfrm>
            <a:off x="2909880" y="4508640"/>
            <a:ext cx="333360" cy="215640"/>
          </a:xfrm>
          <a:prstGeom prst="ellipse">
            <a:avLst/>
          </a:prstGeom>
          <a:noFill/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直線矢印コネクタ 6"/>
          <p:cNvCxnSpPr/>
          <p:nvPr/>
        </p:nvCxnSpPr>
        <p:spPr>
          <a:xfrm>
            <a:off x="3242880" y="4608000"/>
            <a:ext cx="2592720" cy="108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cxnSp>
        <p:nvCxnSpPr>
          <p:cNvPr id="441" name="直線矢印コネクタ 9"/>
          <p:cNvCxnSpPr/>
          <p:nvPr/>
        </p:nvCxnSpPr>
        <p:spPr>
          <a:xfrm>
            <a:off x="5800320" y="4581000"/>
            <a:ext cx="1080" cy="151236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sp>
        <p:nvSpPr>
          <p:cNvPr id="442" name="吹き出し: 角を丸めた四角形 10"/>
          <p:cNvSpPr/>
          <p:nvPr/>
        </p:nvSpPr>
        <p:spPr>
          <a:xfrm>
            <a:off x="324000" y="4307040"/>
            <a:ext cx="2259000" cy="2060280"/>
          </a:xfrm>
          <a:prstGeom prst="wedgeRoundRectCallout">
            <a:avLst>
              <a:gd name="adj1" fmla="val 60513"/>
              <a:gd name="adj2" fmla="val -33384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累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相対度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箱ひげ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の特徴を捉えるに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グラフ化してその特徴を捉え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統計図表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ヒストグラム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一つの数字で特徴を代表させる（統計量）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分散、標準偏差、</a:t>
            </a:r>
            <a:r>
              <a:rPr b="0" lang="en-US" sz="2300" spc="-1" strike="noStrike">
                <a:solidFill>
                  <a:srgbClr val="323232"/>
                </a:solidFill>
                <a:latin typeface="Gill Sans MT"/>
              </a:rPr>
              <a:t>etc</a:t>
            </a:r>
            <a:r>
              <a:rPr b="0" lang="en-US" sz="2300" spc="-1" strike="noStrike">
                <a:solidFill>
                  <a:srgbClr val="323232"/>
                </a:solidFill>
                <a:latin typeface="Times New Roman"/>
              </a:rPr>
              <a:t>…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79280" y="1341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データ：　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,3,5,7,11,13,17,19,23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最小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最大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3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中央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1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第１（下側）４分位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8×0.2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＋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＝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番目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Gill Sans MT"/>
              </a:rPr>
              <a:t>高校の教科書通り計算すると、</a:t>
            </a: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第３（上側）４分位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7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8×0.7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＋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＝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7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番目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Gill Sans MT"/>
              </a:rPr>
              <a:t>高校の教科書通り計算すると、</a:t>
            </a: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18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レンジ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　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3-2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四分位範囲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2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　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7-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graphicFrame>
        <p:nvGraphicFramePr>
          <p:cNvPr id="446" name="Object 3"/>
          <p:cNvGraphicFramePr/>
          <p:nvPr/>
        </p:nvGraphicFramePr>
        <p:xfrm>
          <a:off x="152280" y="2133720"/>
          <a:ext cx="8763120" cy="26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33720"/>
                    <a:ext cx="876312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4"/>
          <p:cNvSpPr/>
          <p:nvPr/>
        </p:nvSpPr>
        <p:spPr>
          <a:xfrm>
            <a:off x="685800" y="5029200"/>
            <a:ext cx="75438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箱ひげ図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 Wisker Diagra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：順序統計量を用いてデータのばらつきや偏りを表した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と四分位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4920" y="1412640"/>
            <a:ext cx="8559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箱ひげ図：四分位数を利用して描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色々な描き方があ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四分位の計算方法による違い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ひげの伸ばし方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最大値、最小値まで（外れ値を考えない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四分位範囲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5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倍を利用（外れ値を考える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パーセント点（データ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％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が表すも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graphicFrame>
        <p:nvGraphicFramePr>
          <p:cNvPr id="452" name="Object 3"/>
          <p:cNvGraphicFramePr/>
          <p:nvPr/>
        </p:nvGraphicFramePr>
        <p:xfrm>
          <a:off x="142920" y="3143160"/>
          <a:ext cx="8763120" cy="26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3143160"/>
                    <a:ext cx="876312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線吹き出し 1 (枠付き) 4"/>
          <p:cNvSpPr/>
          <p:nvPr/>
        </p:nvSpPr>
        <p:spPr>
          <a:xfrm>
            <a:off x="142920" y="1785960"/>
            <a:ext cx="1928880" cy="1285920"/>
          </a:xfrm>
          <a:prstGeom prst="borderCallout1">
            <a:avLst>
              <a:gd name="adj1" fmla="val 18750"/>
              <a:gd name="adj2" fmla="val -8333"/>
              <a:gd name="adj3" fmla="val 181898"/>
              <a:gd name="adj4" fmla="val 2022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４分位範囲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下側限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線吹き出し 1 (枠付き) 5"/>
          <p:cNvSpPr/>
          <p:nvPr/>
        </p:nvSpPr>
        <p:spPr>
          <a:xfrm>
            <a:off x="7215120" y="6000840"/>
            <a:ext cx="1317600" cy="500040"/>
          </a:xfrm>
          <a:prstGeom prst="borderCallout1">
            <a:avLst>
              <a:gd name="adj1" fmla="val 18750"/>
              <a:gd name="adj2" fmla="val -8333"/>
              <a:gd name="adj3" fmla="val -350018"/>
              <a:gd name="adj4" fmla="val -3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れ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線吹き出し 1 (枠付き) 6"/>
          <p:cNvSpPr/>
          <p:nvPr/>
        </p:nvSpPr>
        <p:spPr>
          <a:xfrm>
            <a:off x="2143080" y="1928880"/>
            <a:ext cx="2214720" cy="785880"/>
          </a:xfrm>
          <a:prstGeom prst="borderCallout1">
            <a:avLst>
              <a:gd name="adj1" fmla="val 18750"/>
              <a:gd name="adj2" fmla="val -8333"/>
              <a:gd name="adj3" fmla="val 228861"/>
              <a:gd name="adj4" fmla="val -5079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れ値を除い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小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線吹き出し 1 (枠付き) 7"/>
          <p:cNvSpPr/>
          <p:nvPr/>
        </p:nvSpPr>
        <p:spPr>
          <a:xfrm>
            <a:off x="4500720" y="1928880"/>
            <a:ext cx="2214360" cy="785880"/>
          </a:xfrm>
          <a:prstGeom prst="borderCallout1">
            <a:avLst>
              <a:gd name="adj1" fmla="val 18750"/>
              <a:gd name="adj2" fmla="val -8333"/>
              <a:gd name="adj3" fmla="val 228861"/>
              <a:gd name="adj4" fmla="val 362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れ値を除い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大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線吹き出し 1 (枠付き) 8"/>
          <p:cNvSpPr/>
          <p:nvPr/>
        </p:nvSpPr>
        <p:spPr>
          <a:xfrm>
            <a:off x="6929280" y="1857240"/>
            <a:ext cx="1857600" cy="1285920"/>
          </a:xfrm>
          <a:prstGeom prst="borderCallout1">
            <a:avLst>
              <a:gd name="adj1" fmla="val 18750"/>
              <a:gd name="adj2" fmla="val -8333"/>
              <a:gd name="adj3" fmla="val 181041"/>
              <a:gd name="adj4" fmla="val -9453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位範囲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上側限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線吹き出し 1 (枠付き) 9"/>
          <p:cNvSpPr/>
          <p:nvPr/>
        </p:nvSpPr>
        <p:spPr>
          <a:xfrm>
            <a:off x="5286240" y="5857920"/>
            <a:ext cx="1285920" cy="785880"/>
          </a:xfrm>
          <a:prstGeom prst="borderCallout1">
            <a:avLst>
              <a:gd name="adj1" fmla="val 18750"/>
              <a:gd name="adj2" fmla="val -8333"/>
              <a:gd name="adj3" fmla="val -193810"/>
              <a:gd name="adj4" fmla="val -14709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位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線吹き出し 1 (枠付き) 10"/>
          <p:cNvSpPr/>
          <p:nvPr/>
        </p:nvSpPr>
        <p:spPr>
          <a:xfrm>
            <a:off x="214200" y="5857920"/>
            <a:ext cx="1285920" cy="785880"/>
          </a:xfrm>
          <a:prstGeom prst="borderCallout1">
            <a:avLst>
              <a:gd name="adj1" fmla="val 18750"/>
              <a:gd name="adj2" fmla="val -8333"/>
              <a:gd name="adj3" fmla="val -157870"/>
              <a:gd name="adj4" fmla="val 156949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下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位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線吹き出し 1 (枠付き) 11"/>
          <p:cNvSpPr/>
          <p:nvPr/>
        </p:nvSpPr>
        <p:spPr>
          <a:xfrm>
            <a:off x="2857680" y="6000840"/>
            <a:ext cx="1285560" cy="571320"/>
          </a:xfrm>
          <a:prstGeom prst="borderCallout1">
            <a:avLst>
              <a:gd name="adj1" fmla="val 18750"/>
              <a:gd name="adj2" fmla="val -8333"/>
              <a:gd name="adj3" fmla="val -209421"/>
              <a:gd name="adj4" fmla="val -2324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中央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図 4" descr="数直線グラフ.bmp"/>
          <p:cNvPicPr/>
          <p:nvPr/>
        </p:nvPicPr>
        <p:blipFill>
          <a:blip r:embed="rId1"/>
          <a:stretch/>
        </p:blipFill>
        <p:spPr>
          <a:xfrm>
            <a:off x="592200" y="836640"/>
            <a:ext cx="5819760" cy="56167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684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身長データを用いた</a:t>
            </a:r>
            <a:br>
              <a:rPr sz="3200"/>
            </a:b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作成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64" name="Picture 1027" descr="D:\shisato\授業\txp_fig.png"/>
          <p:cNvPicPr/>
          <p:nvPr/>
        </p:nvPicPr>
        <p:blipFill>
          <a:blip r:embed="rId2"/>
          <a:stretch/>
        </p:blipFill>
        <p:spPr>
          <a:xfrm>
            <a:off x="6804000" y="189000"/>
            <a:ext cx="2095560" cy="6375240"/>
          </a:xfrm>
          <a:prstGeom prst="rect">
            <a:avLst/>
          </a:prstGeom>
          <a:ln w="0">
            <a:noFill/>
          </a:ln>
        </p:spPr>
      </p:pic>
      <p:sp>
        <p:nvSpPr>
          <p:cNvPr id="465" name="直線コネクタ 6"/>
          <p:cNvSpPr/>
          <p:nvPr/>
        </p:nvSpPr>
        <p:spPr>
          <a:xfrm>
            <a:off x="3564000" y="3645000"/>
            <a:ext cx="0" cy="1871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線コネクタ 7"/>
          <p:cNvSpPr/>
          <p:nvPr/>
        </p:nvSpPr>
        <p:spPr>
          <a:xfrm flipH="1">
            <a:off x="4356000" y="3645000"/>
            <a:ext cx="7920" cy="186372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線コネクタ 9"/>
          <p:cNvSpPr/>
          <p:nvPr/>
        </p:nvSpPr>
        <p:spPr>
          <a:xfrm>
            <a:off x="2916360" y="3645000"/>
            <a:ext cx="0" cy="1871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線コネクタ 11"/>
          <p:cNvSpPr/>
          <p:nvPr/>
        </p:nvSpPr>
        <p:spPr>
          <a:xfrm>
            <a:off x="2916360" y="3645000"/>
            <a:ext cx="143964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線コネクタ 12"/>
          <p:cNvSpPr/>
          <p:nvPr/>
        </p:nvSpPr>
        <p:spPr>
          <a:xfrm>
            <a:off x="2916360" y="5445000"/>
            <a:ext cx="143964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線コネクタ 14"/>
          <p:cNvSpPr/>
          <p:nvPr/>
        </p:nvSpPr>
        <p:spPr>
          <a:xfrm>
            <a:off x="826920" y="4292640"/>
            <a:ext cx="0" cy="936720"/>
          </a:xfrm>
          <a:prstGeom prst="line">
            <a:avLst/>
          </a:prstGeom>
          <a:ln w="38160">
            <a:solidFill>
              <a:srgbClr val="f07f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線コネクタ 15"/>
          <p:cNvSpPr/>
          <p:nvPr/>
        </p:nvSpPr>
        <p:spPr>
          <a:xfrm>
            <a:off x="6227640" y="4292640"/>
            <a:ext cx="0" cy="936720"/>
          </a:xfrm>
          <a:prstGeom prst="line">
            <a:avLst/>
          </a:prstGeom>
          <a:ln w="38160">
            <a:solidFill>
              <a:srgbClr val="f07f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線コネクタ 18"/>
          <p:cNvSpPr/>
          <p:nvPr/>
        </p:nvSpPr>
        <p:spPr>
          <a:xfrm>
            <a:off x="1332000" y="4076640"/>
            <a:ext cx="0" cy="108108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線コネクタ 19"/>
          <p:cNvSpPr/>
          <p:nvPr/>
        </p:nvSpPr>
        <p:spPr>
          <a:xfrm>
            <a:off x="6012000" y="4221000"/>
            <a:ext cx="0" cy="1079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線コネクタ 21"/>
          <p:cNvSpPr/>
          <p:nvPr/>
        </p:nvSpPr>
        <p:spPr>
          <a:xfrm>
            <a:off x="1332000" y="4581360"/>
            <a:ext cx="158436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線コネクタ 22"/>
          <p:cNvSpPr/>
          <p:nvPr/>
        </p:nvSpPr>
        <p:spPr>
          <a:xfrm>
            <a:off x="4284720" y="4581360"/>
            <a:ext cx="172728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Chart 1" descr=""/>
          <p:cNvPicPr/>
          <p:nvPr/>
        </p:nvPicPr>
        <p:blipFill>
          <a:blip r:embed="rId3"/>
          <a:stretch/>
        </p:blipFill>
        <p:spPr>
          <a:xfrm>
            <a:off x="176040" y="695160"/>
            <a:ext cx="64868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を使うと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11280" y="1268280"/>
            <a:ext cx="815184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散らばり具合、集中具合が一目で分か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の位置により、データが対称かそうでないかを知ることができ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値と四分位範囲を使った基準により、外れ値を見つけ、表示することができ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三つ以上のデータ集合を比較するのに便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つ以上の項目で層別されたデータを表すのに便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072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見方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50520" y="1412640"/>
            <a:ext cx="8304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箱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大き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真ん中の線（中央値）の位置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ひげ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長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対称性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全体的に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大き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外れ値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対称性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強み、ヒストグラムの強み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0720" y="1484280"/>
            <a:ext cx="85057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箱ひげ図の強み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順序統計量だけで書け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ヒストグラム：度数分布表（データの集計）が必要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複数のデータ・層別データを比較するときに便利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ヒストグラムの強み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複数のピーク（山・峰）を持つデータ分布を表現でき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箱ひげ図：箱がひげより長く、いびつなグラフになる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データの分布状態（山・最頻値）がより良く分か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656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２つの山があるデータ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84" name="図 3" descr=""/>
          <p:cNvPicPr/>
          <p:nvPr/>
        </p:nvPicPr>
        <p:blipFill>
          <a:blip r:embed="rId1"/>
          <a:stretch/>
        </p:blipFill>
        <p:spPr>
          <a:xfrm>
            <a:off x="4567320" y="2924280"/>
            <a:ext cx="4181400" cy="3060720"/>
          </a:xfrm>
          <a:prstGeom prst="rect">
            <a:avLst/>
          </a:prstGeom>
          <a:ln w="0">
            <a:noFill/>
          </a:ln>
        </p:spPr>
      </p:pic>
      <p:pic>
        <p:nvPicPr>
          <p:cNvPr id="485" name="図 4" descr=""/>
          <p:cNvPicPr/>
          <p:nvPr/>
        </p:nvPicPr>
        <p:blipFill>
          <a:blip r:embed="rId2"/>
          <a:stretch/>
        </p:blipFill>
        <p:spPr>
          <a:xfrm>
            <a:off x="358920" y="2924280"/>
            <a:ext cx="41814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656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とヒストグラム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360" y="1268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足の大きさを、性別・年齢別で比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ヒストグラムを描くと結構面倒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６種類描く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色分けをす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488" name="図 6" descr=""/>
          <p:cNvPicPr/>
          <p:nvPr/>
        </p:nvPicPr>
        <p:blipFill>
          <a:blip r:embed="rId1"/>
          <a:stretch/>
        </p:blipFill>
        <p:spPr>
          <a:xfrm>
            <a:off x="3780000" y="2492280"/>
            <a:ext cx="49068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統計量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09480" y="2642760"/>
            <a:ext cx="77724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どんな類の特徴を要約したいのか？　によって、様々な統計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散、標準偏差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、最頻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357120" y="164304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285920" y="1571760"/>
            <a:ext cx="7477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ータの特徴を一つの数字に要約した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分散と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91" name="図 5" descr="txp_fig.png"/>
          <p:cNvPicPr/>
          <p:nvPr/>
        </p:nvPicPr>
        <p:blipFill>
          <a:blip r:embed="rId1"/>
          <a:stretch/>
        </p:blipFill>
        <p:spPr>
          <a:xfrm>
            <a:off x="4143240" y="3714840"/>
            <a:ext cx="4287960" cy="1428840"/>
          </a:xfrm>
          <a:prstGeom prst="rect">
            <a:avLst/>
          </a:prstGeom>
          <a:ln w="0">
            <a:noFill/>
          </a:ln>
        </p:spPr>
      </p:pic>
      <p:pic>
        <p:nvPicPr>
          <p:cNvPr id="492" name="図 7" descr="txp_fig.png"/>
          <p:cNvPicPr/>
          <p:nvPr/>
        </p:nvPicPr>
        <p:blipFill>
          <a:blip r:embed="rId2"/>
          <a:stretch/>
        </p:blipFill>
        <p:spPr>
          <a:xfrm>
            <a:off x="428760" y="500040"/>
            <a:ext cx="2786040" cy="5975280"/>
          </a:xfrm>
          <a:prstGeom prst="rect">
            <a:avLst/>
          </a:prstGeom>
          <a:ln w="0">
            <a:noFill/>
          </a:ln>
        </p:spPr>
      </p:pic>
      <p:sp>
        <p:nvSpPr>
          <p:cNvPr id="493" name="テキスト ボックス 8"/>
          <p:cNvSpPr/>
          <p:nvPr/>
        </p:nvSpPr>
        <p:spPr>
          <a:xfrm>
            <a:off x="4000680" y="17146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東京と那覇の気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例（ヒストグラム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95" name="グラフ 4" descr=""/>
          <p:cNvPicPr/>
          <p:nvPr/>
        </p:nvPicPr>
        <p:blipFill>
          <a:blip r:embed="rId1"/>
          <a:stretch/>
        </p:blipFill>
        <p:spPr>
          <a:xfrm>
            <a:off x="281160" y="1573200"/>
            <a:ext cx="4290840" cy="4784760"/>
          </a:xfrm>
          <a:prstGeom prst="rect">
            <a:avLst/>
          </a:prstGeom>
          <a:ln w="0">
            <a:noFill/>
          </a:ln>
        </p:spPr>
      </p:pic>
      <p:pic>
        <p:nvPicPr>
          <p:cNvPr id="496" name="グラフ 5" descr=""/>
          <p:cNvPicPr/>
          <p:nvPr/>
        </p:nvPicPr>
        <p:blipFill>
          <a:blip r:embed="rId2"/>
          <a:stretch/>
        </p:blipFill>
        <p:spPr>
          <a:xfrm>
            <a:off x="4638600" y="1573200"/>
            <a:ext cx="42926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世の中に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50560" y="1268280"/>
            <a:ext cx="87138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を作ると、形が違うデータセットが多々ありま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細長かったりぺたんこだったり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「データのバラツキ具合（散布度）」が違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そのような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『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違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』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を表す統計量はあるだろうか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一々ヒストグラムで表していたら、スペースがもったいない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からの距離（偏差）であらわす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プラスマイナスの効果を打ち消すことを忘れず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偏差平方和（変動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6784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から、データの平均を引いて２乗したものの総和（２乗平均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「平均からのズレ」の総和を表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からデータの平均を引いたものの総和は０になってしまうので、「平均からのズレ」の指標に適さない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偏差平方和は、データの大きさが大きいほど、大きくなってしま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501" name="Picture 4" descr="D:\shisato\授業\txp_fig.png"/>
          <p:cNvPicPr/>
          <p:nvPr/>
        </p:nvPicPr>
        <p:blipFill>
          <a:blip r:embed="rId1"/>
          <a:stretch/>
        </p:blipFill>
        <p:spPr>
          <a:xfrm>
            <a:off x="1066680" y="5030640"/>
            <a:ext cx="755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分散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03" name="Picture 3" descr="D:\shisato\授業\txp_fig.png"/>
          <p:cNvPicPr/>
          <p:nvPr/>
        </p:nvPicPr>
        <p:blipFill>
          <a:blip r:embed="rId1"/>
          <a:srcRect l="-3329" t="-9766" r="-3329" b="-9766"/>
          <a:stretch/>
        </p:blipFill>
        <p:spPr>
          <a:xfrm>
            <a:off x="1898640" y="2050920"/>
            <a:ext cx="5094360" cy="19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4" name="Picture 4" descr="D:\shisato\授業\txp_fig.png"/>
          <p:cNvPicPr/>
          <p:nvPr/>
        </p:nvPicPr>
        <p:blipFill>
          <a:blip r:embed="rId2"/>
          <a:stretch/>
        </p:blipFill>
        <p:spPr>
          <a:xfrm>
            <a:off x="1219320" y="5181480"/>
            <a:ext cx="65275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5072040" y="4857840"/>
            <a:ext cx="3200400" cy="520560"/>
          </a:xfrm>
          <a:prstGeom prst="rect">
            <a:avLst/>
          </a:prstGeom>
          <a:noFill/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の正の平方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D:\shisato\授業\txp_fig.png"/>
          <p:cNvPicPr/>
          <p:nvPr/>
        </p:nvPicPr>
        <p:blipFill>
          <a:blip r:embed="rId1"/>
          <a:srcRect l="-2278" t="-7633" r="-2278" b="-7633"/>
          <a:stretch/>
        </p:blipFill>
        <p:spPr>
          <a:xfrm>
            <a:off x="2000160" y="3143160"/>
            <a:ext cx="4411800" cy="145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8" name="Text Box 5"/>
          <p:cNvSpPr/>
          <p:nvPr/>
        </p:nvSpPr>
        <p:spPr>
          <a:xfrm>
            <a:off x="357120" y="1785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は、データから平均を引い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乗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しているから、測定単位も２乗にな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5"/>
          <p:cNvSpPr/>
          <p:nvPr/>
        </p:nvSpPr>
        <p:spPr>
          <a:xfrm>
            <a:off x="4357800" y="57150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測定単位が平均と同じ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分散を計算す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11280" y="1267920"/>
            <a:ext cx="79992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度数分布表から分散を計算するには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平均値を計算す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階級値から平均値を引いて２乗し、度数をかけ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それを合計す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データの総数で割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１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095880" y="201780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平均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偏差平方和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分散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.8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標準偏差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4" name="Picture 4" descr="D:\shisato\授業\txp_fig.png"/>
          <p:cNvPicPr/>
          <p:nvPr/>
        </p:nvPicPr>
        <p:blipFill>
          <a:blip r:embed="rId1"/>
          <a:stretch/>
        </p:blipFill>
        <p:spPr>
          <a:xfrm>
            <a:off x="228600" y="2057400"/>
            <a:ext cx="5486400" cy="5684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D:\shisato\授業\txp_fig.png"/>
          <p:cNvPicPr/>
          <p:nvPr/>
        </p:nvPicPr>
        <p:blipFill>
          <a:blip r:embed="rId2"/>
          <a:stretch/>
        </p:blipFill>
        <p:spPr>
          <a:xfrm>
            <a:off x="304920" y="2971800"/>
            <a:ext cx="548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２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17" name="図 8" descr="txp_fig.png"/>
          <p:cNvPicPr/>
          <p:nvPr/>
        </p:nvPicPr>
        <p:blipFill>
          <a:blip r:embed="rId1"/>
          <a:stretch/>
        </p:blipFill>
        <p:spPr>
          <a:xfrm>
            <a:off x="2052720" y="2744640"/>
            <a:ext cx="3514680" cy="24354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4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図 11" descr="txp_fig.png"/>
          <p:cNvPicPr/>
          <p:nvPr/>
        </p:nvPicPr>
        <p:blipFill>
          <a:blip r:embed="rId2"/>
          <a:stretch/>
        </p:blipFill>
        <p:spPr>
          <a:xfrm>
            <a:off x="500040" y="1285920"/>
            <a:ext cx="7950240" cy="2089080"/>
          </a:xfrm>
          <a:prstGeom prst="rect">
            <a:avLst/>
          </a:prstGeom>
          <a:ln w="0">
            <a:noFill/>
          </a:ln>
        </p:spPr>
      </p:pic>
      <p:sp>
        <p:nvSpPr>
          <p:cNvPr id="520" name="テキスト ボックス 12"/>
          <p:cNvSpPr/>
          <p:nvPr/>
        </p:nvSpPr>
        <p:spPr>
          <a:xfrm>
            <a:off x="1500120" y="4143240"/>
            <a:ext cx="61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平均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÷10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÷10=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標準偏差：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代表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971640" y="1268280"/>
            <a:ext cx="79833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データの分布の中心を表す数値（統計量）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最頻値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の意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79280" y="1341000"/>
            <a:ext cx="878544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データの、平均からの散らばりを評価する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データの、平均値からの離れ方を平均したもの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大きいほうに離れようが、小さいほうに離れようが、どちらも正の数として評価し、打ち消しあわないように平均してい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ヒストグラムと分散・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24" name="グラフ 3" descr=""/>
          <p:cNvPicPr/>
          <p:nvPr/>
        </p:nvPicPr>
        <p:blipFill>
          <a:blip r:embed="rId1"/>
          <a:stretch/>
        </p:blipFill>
        <p:spPr>
          <a:xfrm>
            <a:off x="798480" y="1371600"/>
            <a:ext cx="3432240" cy="1859040"/>
          </a:xfrm>
          <a:prstGeom prst="rect">
            <a:avLst/>
          </a:prstGeom>
          <a:ln w="0">
            <a:noFill/>
          </a:ln>
        </p:spPr>
      </p:pic>
      <p:pic>
        <p:nvPicPr>
          <p:cNvPr id="525" name="グラフ 4" descr=""/>
          <p:cNvPicPr/>
          <p:nvPr/>
        </p:nvPicPr>
        <p:blipFill>
          <a:blip r:embed="rId2"/>
          <a:stretch/>
        </p:blipFill>
        <p:spPr>
          <a:xfrm>
            <a:off x="4443480" y="1371600"/>
            <a:ext cx="3481200" cy="1785960"/>
          </a:xfrm>
          <a:prstGeom prst="rect">
            <a:avLst/>
          </a:prstGeom>
          <a:ln w="0">
            <a:noFill/>
          </a:ln>
        </p:spPr>
      </p:pic>
      <p:pic>
        <p:nvPicPr>
          <p:cNvPr id="526" name="グラフ 5" descr=""/>
          <p:cNvPicPr/>
          <p:nvPr/>
        </p:nvPicPr>
        <p:blipFill>
          <a:blip r:embed="rId3"/>
          <a:stretch/>
        </p:blipFill>
        <p:spPr>
          <a:xfrm>
            <a:off x="871560" y="3876840"/>
            <a:ext cx="3286080" cy="1785600"/>
          </a:xfrm>
          <a:prstGeom prst="rect">
            <a:avLst/>
          </a:prstGeom>
          <a:ln w="0">
            <a:noFill/>
          </a:ln>
        </p:spPr>
      </p:pic>
      <p:pic>
        <p:nvPicPr>
          <p:cNvPr id="527" name="グラフ 6" descr=""/>
          <p:cNvPicPr/>
          <p:nvPr/>
        </p:nvPicPr>
        <p:blipFill>
          <a:blip r:embed="rId4"/>
          <a:stretch/>
        </p:blipFill>
        <p:spPr>
          <a:xfrm>
            <a:off x="4657680" y="3943440"/>
            <a:ext cx="3359160" cy="1787400"/>
          </a:xfrm>
          <a:prstGeom prst="rect">
            <a:avLst/>
          </a:prstGeom>
          <a:ln w="0">
            <a:noFill/>
          </a:ln>
        </p:spPr>
      </p:pic>
      <p:sp>
        <p:nvSpPr>
          <p:cNvPr id="528" name="テキスト ボックス 7"/>
          <p:cNvSpPr/>
          <p:nvPr/>
        </p:nvSpPr>
        <p:spPr>
          <a:xfrm>
            <a:off x="1085760" y="323064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テキスト ボックス 8"/>
          <p:cNvSpPr/>
          <p:nvPr/>
        </p:nvSpPr>
        <p:spPr>
          <a:xfrm>
            <a:off x="4729320" y="32306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テキスト ボックス 9"/>
          <p:cNvSpPr/>
          <p:nvPr/>
        </p:nvSpPr>
        <p:spPr>
          <a:xfrm>
            <a:off x="1014480" y="565956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4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テキスト ボックス 10"/>
          <p:cNvSpPr/>
          <p:nvPr/>
        </p:nvSpPr>
        <p:spPr>
          <a:xfrm>
            <a:off x="5086440" y="56595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9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50560" y="4797360"/>
            <a:ext cx="8569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も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もデータの分布範囲が一緒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左右対称だから平均も一緒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や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を持つデータが多い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4" name="Picture 2" descr="H:\shisato\授業\統計入門\st1.bmp"/>
          <p:cNvPicPr/>
          <p:nvPr/>
        </p:nvPicPr>
        <p:blipFill>
          <a:blip r:embed="rId1"/>
          <a:stretch/>
        </p:blipFill>
        <p:spPr>
          <a:xfrm>
            <a:off x="324000" y="1844640"/>
            <a:ext cx="3082680" cy="29955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H:\shisato\授業\統計入門\st2.bmp"/>
          <p:cNvPicPr/>
          <p:nvPr/>
        </p:nvPicPr>
        <p:blipFill>
          <a:blip r:embed="rId2"/>
          <a:stretch/>
        </p:blipFill>
        <p:spPr>
          <a:xfrm>
            <a:off x="5364000" y="1773360"/>
            <a:ext cx="3097440" cy="3095640"/>
          </a:xfrm>
          <a:prstGeom prst="rect">
            <a:avLst/>
          </a:prstGeom>
          <a:ln w="0">
            <a:noFill/>
          </a:ln>
        </p:spPr>
      </p:pic>
      <p:sp>
        <p:nvSpPr>
          <p:cNvPr id="536" name="四角形吹き出し 5"/>
          <p:cNvSpPr/>
          <p:nvPr/>
        </p:nvSpPr>
        <p:spPr>
          <a:xfrm>
            <a:off x="2916360" y="1125360"/>
            <a:ext cx="5111640" cy="648000"/>
          </a:xfrm>
          <a:prstGeom prst="wedgeRectCallout">
            <a:avLst>
              <a:gd name="adj1" fmla="val 29490"/>
              <a:gd name="adj2" fmla="val 8697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標準偏差が大き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25440" y="4797000"/>
            <a:ext cx="8569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で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を持つデータは全体の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/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分散は、偏差の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乗の平均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Picture 2" descr="H:\shisato\授業\統計入門\st6.bmp"/>
          <p:cNvPicPr/>
          <p:nvPr/>
        </p:nvPicPr>
        <p:blipFill>
          <a:blip r:embed="rId1"/>
          <a:stretch/>
        </p:blipFill>
        <p:spPr>
          <a:xfrm>
            <a:off x="5219640" y="1844640"/>
            <a:ext cx="3192480" cy="3164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H:\shisato\授業\統計入門\st5.bmp"/>
          <p:cNvPicPr/>
          <p:nvPr/>
        </p:nvPicPr>
        <p:blipFill>
          <a:blip r:embed="rId2"/>
          <a:stretch/>
        </p:blipFill>
        <p:spPr>
          <a:xfrm>
            <a:off x="755640" y="1844640"/>
            <a:ext cx="3073320" cy="3073320"/>
          </a:xfrm>
          <a:prstGeom prst="rect">
            <a:avLst/>
          </a:prstGeom>
          <a:ln w="0">
            <a:noFill/>
          </a:ln>
        </p:spPr>
      </p:pic>
      <p:sp>
        <p:nvSpPr>
          <p:cNvPr id="541" name="四角形吹き出し 4"/>
          <p:cNvSpPr/>
          <p:nvPr/>
        </p:nvSpPr>
        <p:spPr>
          <a:xfrm>
            <a:off x="3780000" y="1197000"/>
            <a:ext cx="5111640" cy="647640"/>
          </a:xfrm>
          <a:prstGeom prst="wedgeRectCallout">
            <a:avLst>
              <a:gd name="adj1" fmla="val -13439"/>
              <a:gd name="adj2" fmla="val 8320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標準偏差が大き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11280" y="5116320"/>
            <a:ext cx="777240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どちらも同じ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同じデータについて、横軸の長さを変えたもの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4" name="グラフ 3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236760" cy="2743200"/>
          </a:xfrm>
          <a:prstGeom prst="rect">
            <a:avLst/>
          </a:prstGeom>
          <a:ln w="0">
            <a:noFill/>
          </a:ln>
        </p:spPr>
      </p:pic>
      <p:pic>
        <p:nvPicPr>
          <p:cNvPr id="545" name="グラフ 4" descr=""/>
          <p:cNvPicPr/>
          <p:nvPr/>
        </p:nvPicPr>
        <p:blipFill>
          <a:blip r:embed="rId2"/>
          <a:stretch/>
        </p:blipFill>
        <p:spPr>
          <a:xfrm>
            <a:off x="5078520" y="2133720"/>
            <a:ext cx="3236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２標準偏差ルール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23640" y="1268280"/>
            <a:ext cx="85676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規分布に従うデータでは、平均から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±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２標準偏差の範囲内に収まるデータ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例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点満点のテス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平均は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70</a:t>
            </a: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、標準偏差が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このテストを受けた人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を取っ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以上取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しかいな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も取れなか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平均は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70</a:t>
            </a: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、標準偏差が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このテストを受けた人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を取っ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以上取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も取れなかった人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い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グラフにすると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49" name="グラフ 3" descr=""/>
          <p:cNvPicPr/>
          <p:nvPr/>
        </p:nvPicPr>
        <p:blipFill>
          <a:blip r:embed="rId1"/>
          <a:stretch/>
        </p:blipFill>
        <p:spPr>
          <a:xfrm>
            <a:off x="469800" y="2133720"/>
            <a:ext cx="8131320" cy="4389480"/>
          </a:xfrm>
          <a:prstGeom prst="rect">
            <a:avLst/>
          </a:prstGeom>
          <a:ln w="0">
            <a:noFill/>
          </a:ln>
        </p:spPr>
      </p:pic>
      <p:sp>
        <p:nvSpPr>
          <p:cNvPr id="550" name="直線コネクタ 5"/>
          <p:cNvSpPr/>
          <p:nvPr/>
        </p:nvSpPr>
        <p:spPr>
          <a:xfrm>
            <a:off x="6156360" y="1844640"/>
            <a:ext cx="0" cy="482436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偏差値の話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42600" y="2017800"/>
            <a:ext cx="831204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偏差値：データを平均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、標準偏差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になるように加工したもの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5D09-5FDB-47B0-AF4F-01A40FD2EA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図 1" descr="%takaTeX&#13;&#10;\documentclass{jarticle}&#13;&#10;\usepackage{color}\pagestyle{empty}&#13;&#10;\begin{document}\LARGE\color{black}&#13;&#10;$$&#13;&#10;偏差値=\frac{得点x-平均\mu}{標準偏差\sigma}\times 10+50&#13;&#10;$$&#13;&#10;\end{document}&#13;&#10;"/>
          <p:cNvPicPr/>
          <p:nvPr/>
        </p:nvPicPr>
        <p:blipFill>
          <a:blip r:embed="rId1"/>
          <a:stretch/>
        </p:blipFill>
        <p:spPr>
          <a:xfrm>
            <a:off x="971640" y="3284640"/>
            <a:ext cx="7391160" cy="1152360"/>
          </a:xfrm>
          <a:prstGeom prst="rect">
            <a:avLst/>
          </a:prstGeom>
          <a:ln w="0">
            <a:noFill/>
          </a:ln>
        </p:spPr>
      </p:pic>
      <p:sp>
        <p:nvSpPr>
          <p:cNvPr id="555" name="正方形/長方形 3"/>
          <p:cNvSpPr/>
          <p:nvPr/>
        </p:nvSpPr>
        <p:spPr>
          <a:xfrm>
            <a:off x="2916360" y="3141720"/>
            <a:ext cx="3240000" cy="14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角丸四角形吹き出し 4"/>
          <p:cNvSpPr/>
          <p:nvPr/>
        </p:nvSpPr>
        <p:spPr>
          <a:xfrm>
            <a:off x="3059280" y="5084640"/>
            <a:ext cx="3744720" cy="720720"/>
          </a:xfrm>
          <a:prstGeom prst="wedgeRoundRectCallout">
            <a:avLst>
              <a:gd name="adj1" fmla="val -18768"/>
              <a:gd name="adj2" fmla="val -118277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ahoma"/>
              </a:rPr>
              <a:t>標準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化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3520" y="1341000"/>
            <a:ext cx="80769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、（データ－平均値）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÷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標準偏差で加工すると、できたデータの平均と標準偏差は以下のようにな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＝０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標準偏差＝１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559" name="AutoShape 1028"/>
          <p:cNvSpPr/>
          <p:nvPr/>
        </p:nvSpPr>
        <p:spPr>
          <a:xfrm>
            <a:off x="3657600" y="3859200"/>
            <a:ext cx="14479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029"/>
          <p:cNvSpPr/>
          <p:nvPr/>
        </p:nvSpPr>
        <p:spPr>
          <a:xfrm>
            <a:off x="2743200" y="5072040"/>
            <a:ext cx="3276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標準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散布度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920" y="1341000"/>
            <a:ext cx="741672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データの分布の広がり具合を表す数値（統計量）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分散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標準偏差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レンジ（範囲）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四分位範囲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平均・中央値・最頻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375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357120" y="2643120"/>
            <a:ext cx="7863120" cy="28177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1928880" y="1500120"/>
            <a:ext cx="6172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ータの合計をデータ数で割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"/>
          <p:cNvSpPr/>
          <p:nvPr/>
        </p:nvSpPr>
        <p:spPr>
          <a:xfrm>
            <a:off x="500040" y="157176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の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4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5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(100+200+300+400+500)÷5=300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4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50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(100+200+300+400+5000)÷5=1200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380" name="雲形吹き出し 3"/>
          <p:cNvSpPr/>
          <p:nvPr/>
        </p:nvSpPr>
        <p:spPr>
          <a:xfrm>
            <a:off x="2786040" y="4286160"/>
            <a:ext cx="4857840" cy="2214720"/>
          </a:xfrm>
          <a:prstGeom prst="cloudCallout">
            <a:avLst>
              <a:gd name="adj1" fmla="val 17583"/>
              <a:gd name="adj2" fmla="val -7259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一人のお金持ちが「平均値」を引っ張ってしま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5:51:00Z</dcterms:created>
  <dc:creator/>
  <dc:description/>
  <dc:language>en-US</dc:language>
  <cp:lastModifiedBy/>
  <dcterms:modified xsi:type="dcterms:W3CDTF">2019-03-18T06:10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571041</vt:lpwstr>
  </property>
</Properties>
</file>