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72A-2C3F-46C9-8408-789624EA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F1D-BAC6-4EBD-8514-56446A1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ECE-BEDF-4670-8582-D3D5F325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3D4-8134-41D8-9C62-8573DCDF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845-E886-47CB-9CB0-F359C14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3AF-707E-4777-9DC8-49DBF499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77F-E5BE-49E9-9068-71CB14C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113-3C78-4EDA-A560-52334EE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984-13D2-4616-B2B1-91F1C0B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201-D94B-4404-AF2E-FE0A7FA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F17-1906-40E5-9CA4-3360491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D7C-883B-471B-95D6-A2298BC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39D3B-1B52-45EF-9D73-5E0F161377CF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度数分布表からの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　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539640" y="2276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全体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0+156+158+162+154+152+151+167=1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0÷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図 3" descr="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2614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09480" y="46483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6.75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09:35Z</dcterms:created>
  <dc:creator>Matsumoto Chieko</dc:creator>
  <dc:description/>
  <dc:language>en-US</dc:language>
  <cp:lastModifiedBy>Matsumoto Chieko</cp:lastModifiedBy>
  <dcterms:modified xsi:type="dcterms:W3CDTF">2019-03-18T06:10:06Z</dcterms:modified>
  <cp:revision>1</cp:revision>
  <dc:subject/>
  <dc:title>小テスト</dc:title>
</cp:coreProperties>
</file>