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5C1-0D49-457F-8B9D-347FD182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0FE-177D-4C39-8FA2-BA5EA106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C49-862C-48F0-ACDD-C682CCDC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FC6-E687-4AC2-A5D6-62438FC6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9F9-B55E-4FDE-AC76-61B69930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452-B9FC-47B0-95F3-A240C801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8D2-8C74-4540-9667-5911CD6B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F2B-6792-44DB-B90B-7D88266B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640-99DE-4FB8-B250-BAF67173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90A-7769-4176-8746-632FC36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C8A-F355-43C6-BD4C-17E3B29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B29-1A68-4A78-80B2-D9490A7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CF7EB-32F6-401E-B749-EAE6D40FF62B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1268280"/>
            <a:ext cx="8559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ある養魚場の池には大量のニジマスがいる。この池のニジマスの数を推定した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まず、池の中からニジマスを８０匹採取し、これらのニジマスに目印をつけて元の池に戻し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数日後、池の中からニジマスを６０匹採取したところ、その中に目印のついたニジマスが３匹いた（無作為抽出による標本調査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回答１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無作為抽出による標本調査につい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母集団：池にいるニジマス全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標本：６０匹のニジマ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標本の大きさ：６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６０匹のニジマスのうち３匹に印がついていたので、池全体のニジマスの数をｘとし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3=x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が成り立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これを解いて、池全体のニジマス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6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回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この方法でニジマスの数を予想するための条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調査期間中に死んだ魚や新たに池に入った魚はい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最初につけた目印は消えな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どのニジマスも採取される確率は同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23:27Z</dcterms:created>
  <dc:creator>Matsumoto Chieko</dc:creator>
  <dc:description/>
  <dc:language>en-US</dc:language>
  <cp:lastModifiedBy>Matsumoto Chieko</cp:lastModifiedBy>
  <dcterms:modified xsi:type="dcterms:W3CDTF">2019-03-18T06:23:54Z</dcterms:modified>
  <cp:revision>1</cp:revision>
  <dc:subject/>
  <dc:title>小テスト</dc:title>
</cp:coreProperties>
</file>