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516-7C37-4C1B-8758-44835774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C5A-075E-45E4-AFDB-8AB00772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BC5-D463-4898-9F9D-825A7A34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680A-7F2A-444A-8FCD-F5617AE6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2FB1-A6A0-4B95-829C-2461AC4D5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8AD8-8666-46CF-883B-4CA56E3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E6E-45B6-476C-B124-D4E69801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BEB-9D4B-43AF-A67F-0FE075A4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C8CE-0284-4B2A-B0F4-464B581B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AA9-1FA4-49CE-8FA5-21F500BB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95C0-2BD3-4F4A-AA67-5E52290B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44C-5947-46B0-B85A-754CE29B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314D4D-8300-4FA6-9244-39C0D933A816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14200" y="1600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全国から無作為抽出した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2500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世帯について年間の米購入量を調査したところ、平均値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05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，標本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38.0kg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であった。全国の１世帯あたりの平均米購入量を信頼係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9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で推定せよ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AutoShape 5"/>
          <p:cNvSpPr/>
          <p:nvPr/>
        </p:nvSpPr>
        <p:spPr>
          <a:xfrm>
            <a:off x="380880" y="3352680"/>
            <a:ext cx="685800" cy="381240"/>
          </a:xfrm>
          <a:prstGeom prst="rightArrow">
            <a:avLst>
              <a:gd name="adj1" fmla="val 50000"/>
              <a:gd name="adj2" fmla="val 44972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12" descr="D:\shisato\授業\txp_fig.png"/>
          <p:cNvPicPr/>
          <p:nvPr/>
        </p:nvPicPr>
        <p:blipFill>
          <a:blip r:embed="rId1"/>
          <a:stretch/>
        </p:blipFill>
        <p:spPr>
          <a:xfrm>
            <a:off x="336600" y="2290680"/>
            <a:ext cx="8470800" cy="297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3" descr="D:\shisato\授業\txp_fig.png"/>
          <p:cNvPicPr/>
          <p:nvPr/>
        </p:nvPicPr>
        <p:blipFill>
          <a:blip r:embed="rId2"/>
          <a:stretch/>
        </p:blipFill>
        <p:spPr>
          <a:xfrm>
            <a:off x="1549440" y="3203640"/>
            <a:ext cx="7035840" cy="780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4" descr="D:\shisato\授業\txp_fig.png"/>
          <p:cNvPicPr/>
          <p:nvPr/>
        </p:nvPicPr>
        <p:blipFill>
          <a:blip r:embed="rId3"/>
          <a:stretch/>
        </p:blipFill>
        <p:spPr>
          <a:xfrm>
            <a:off x="1600200" y="4419720"/>
            <a:ext cx="4114800" cy="368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D:\shisato\授業\txp_fig.png"/>
          <p:cNvPicPr/>
          <p:nvPr/>
        </p:nvPicPr>
        <p:blipFill>
          <a:blip r:embed="rId4"/>
          <a:stretch/>
        </p:blipFill>
        <p:spPr>
          <a:xfrm>
            <a:off x="1600200" y="5334120"/>
            <a:ext cx="3284640" cy="4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8T06:24:04Z</dcterms:created>
  <dc:creator>Matsumoto Chieko</dc:creator>
  <dc:description/>
  <dc:language>en-US</dc:language>
  <cp:lastModifiedBy>Matsumoto Chieko</cp:lastModifiedBy>
  <dcterms:modified xsi:type="dcterms:W3CDTF">2019-03-18T06:24:50Z</dcterms:modified>
  <cp:revision>1</cp:revision>
  <dc:subject/>
  <dc:title>小テスト</dc:title>
</cp:coreProperties>
</file>