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B43-23D8-4041-862D-E026D5E4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28B-4706-433F-B64D-9E5BDFE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CD9-71D1-4C93-BD5A-FFBF7416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742-44AB-4A13-987D-04CE804E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31E-F5B8-4D8E-B97F-9478D730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D5C-1279-4B4C-A153-5DEC3B6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C3E-F282-4D60-B912-79653A2A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A8D-F37D-47EB-9D48-A6C9A55A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A93-A22D-46CD-AAB3-D6B7B777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875-47D8-43D1-87CC-80CBE5F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020-520B-4EA2-A663-579EBED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AC6-99E4-4907-820B-913307F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E0DAF-5334-462F-8A82-BCD2A883FAD9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であった。全国の１世帯あたりの平均米購入量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03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であるかどうかを、有意水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で検定せ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１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図 8" descr="txp_fig.png"/>
          <p:cNvPicPr/>
          <p:nvPr/>
        </p:nvPicPr>
        <p:blipFill>
          <a:blip r:embed="rId1"/>
          <a:stretch/>
        </p:blipFill>
        <p:spPr>
          <a:xfrm>
            <a:off x="458640" y="2108160"/>
            <a:ext cx="8321760" cy="384120"/>
          </a:xfrm>
          <a:prstGeom prst="rect">
            <a:avLst/>
          </a:prstGeom>
          <a:ln w="0">
            <a:noFill/>
          </a:ln>
        </p:spPr>
      </p:pic>
      <p:pic>
        <p:nvPicPr>
          <p:cNvPr id="45" name="図 11" descr="txp_fig.png"/>
          <p:cNvPicPr/>
          <p:nvPr/>
        </p:nvPicPr>
        <p:blipFill>
          <a:blip r:embed="rId2"/>
          <a:stretch/>
        </p:blipFill>
        <p:spPr>
          <a:xfrm>
            <a:off x="487440" y="2843280"/>
            <a:ext cx="7881840" cy="2241360"/>
          </a:xfrm>
          <a:prstGeom prst="rect">
            <a:avLst/>
          </a:prstGeom>
          <a:ln w="0">
            <a:noFill/>
          </a:ln>
        </p:spPr>
      </p:pic>
      <p:pic>
        <p:nvPicPr>
          <p:cNvPr id="46" name="図 1" descr="%takaTeX&#13;&#10;\documentclass{jarticle}&#13;&#10;\usepackage{color}\pagestyle{empty}&#13;&#10;\begin{document}\color{black}&#13;&#10;標本平均の値&#13;&#10;$\bar{x}=105$は棄却域に入っているので、&#13;&#10;有意水準5％で帰無仮説は棄却される。&#13;&#10;すなわち、平均米購入量は103kgではない、&#13;&#10;と結論づけられる。&#13;&#10;\end{document}&#13;&#10;"/>
          <p:cNvPicPr/>
          <p:nvPr/>
        </p:nvPicPr>
        <p:blipFill>
          <a:blip r:embed="rId3"/>
          <a:stretch/>
        </p:blipFill>
        <p:spPr>
          <a:xfrm>
            <a:off x="68400" y="5300640"/>
            <a:ext cx="89992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図 8" descr="txp_fig.png"/>
          <p:cNvPicPr/>
          <p:nvPr/>
        </p:nvPicPr>
        <p:blipFill>
          <a:blip r:embed="rId1"/>
          <a:stretch/>
        </p:blipFill>
        <p:spPr>
          <a:xfrm>
            <a:off x="458640" y="1427040"/>
            <a:ext cx="8321760" cy="3841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5"/>
          <p:cNvSpPr/>
          <p:nvPr/>
        </p:nvSpPr>
        <p:spPr>
          <a:xfrm>
            <a:off x="1403280" y="357336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定統計量の絶対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6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有意水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％の基準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9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を比較して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検定統計量の絶対値の値の方が大きいので、帰無仮説を棄却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右矢印 7"/>
          <p:cNvSpPr/>
          <p:nvPr/>
        </p:nvSpPr>
        <p:spPr>
          <a:xfrm>
            <a:off x="611280" y="2133720"/>
            <a:ext cx="93636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図 8" descr="txp_fig.png"/>
          <p:cNvPicPr/>
          <p:nvPr/>
        </p:nvPicPr>
        <p:blipFill>
          <a:blip r:embed="rId2"/>
          <a:stretch/>
        </p:blipFill>
        <p:spPr>
          <a:xfrm>
            <a:off x="2050920" y="2133720"/>
            <a:ext cx="4178520" cy="136656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9"/>
          <p:cNvSpPr/>
          <p:nvPr/>
        </p:nvSpPr>
        <p:spPr>
          <a:xfrm>
            <a:off x="3635280" y="5516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値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00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より断然小さい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&lt;0.0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25:03Z</dcterms:created>
  <dc:creator>Matsumoto Chieko</dc:creator>
  <dc:description/>
  <dc:language>en-US</dc:language>
  <cp:lastModifiedBy>Matsumoto Chieko</cp:lastModifiedBy>
  <dcterms:modified xsi:type="dcterms:W3CDTF">2019-03-18T06:25:42Z</dcterms:modified>
  <cp:revision>1</cp:revision>
  <dc:subject/>
  <dc:title>小テスト</dc:title>
</cp:coreProperties>
</file>