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0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46.png" ContentType="image/png"/>
  <Override PartName="/ppt/media/image36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3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</p:sldIdLst>
  <p:sldSz cx="9144000" cy="6858000"/>
  <p:notesSz cx="9871075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9871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5591160" y="-36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3250800" y="504720"/>
            <a:ext cx="3367080" cy="25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639720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5591160" y="639720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BEAD-3FDF-430C-A966-78D3C1A7E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3DE5-1ED5-4182-8A35-E0F15930E92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0101-6B2A-4170-A32F-8CA38AE33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教科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p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スライド番号プレースホルダー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4D12-D1D9-4CB7-B80E-87DE31D1F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590÷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29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http://d.hatena.ne.jp/Chikirin/200911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スライド番号プレースホルダ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F301-1F89-4746-9C31-859F63D02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133981E-3A03-456F-B6F0-88B7592E2B4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教科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26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8360-3C46-4379-A67A-CD42F2668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データが小さいときは結構役に立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明朝"/>
            </a:endParaRPr>
          </a:p>
        </p:txBody>
      </p:sp>
      <p:sp>
        <p:nvSpPr>
          <p:cNvPr id="626" name="スライド番号プレースホルダー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9223-4227-40D8-92C4-AA466EDF80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四分位値の定義からいくと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EXCEL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のやり方の方が正しいような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…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スライド番号プレースホルダー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2475-6DA1-469C-95FB-7A281B1AB3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ヒンジを使う向きもあ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スライド番号プレースホルダ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32E2-1A25-4EF2-9411-1979353005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位範囲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2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、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倍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8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上側限界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2.12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、下側限界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3.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スライド番号プレースホルダ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0A9B-0265-44FF-9945-2D436DFDF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明朝"/>
            </a:endParaRPr>
          </a:p>
        </p:txBody>
      </p:sp>
      <p:sp>
        <p:nvSpPr>
          <p:cNvPr id="638" name="スライド番号プレースホルダー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4E82-553A-4DCD-AB52-1B060D3D80D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左：東京、右：那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スライド番号プレースホルダ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86A0-088A-454F-A74E-ECA9C7414C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1AA7-C330-4B4E-A8BC-7A9080D1D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明朝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C613-FB16-4010-828E-8623F1D60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分散は２乗しているから平方根をとって標準偏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スライド番号プレースホルダ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ED7B-0381-4EA4-BA72-26E97072E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１０の２倍は２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スライド番号プレースホルダー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6010-DF58-4FAB-9CD7-6C61355762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散布図やクロス集計表（グラフ化したものを含む）でもみれるか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スライド番号プレースホルダー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083B-90C0-4098-BAB1-E7970078FF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87120" y="3198960"/>
            <a:ext cx="789444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平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、標準偏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正規分布か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個ランダム（小数点以下切り捨て）で出したデータから作成したヒストグラ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スライド番号プレースホルダー 3"/>
          <p:cNvSpPr/>
          <p:nvPr/>
        </p:nvSpPr>
        <p:spPr>
          <a:xfrm>
            <a:off x="559116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3A04-BD33-4D6F-89A2-F2FA46D5709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BAC-D340-4DB1-B5E0-7E84C22D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3AE6-985E-4136-AA5B-E7ACF289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3E8-2962-4BD8-9764-090E1F1B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CCEA-3546-4AAB-9B72-7B3EEB2D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B513-001A-4DBF-893D-0C51DD4F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F314-800C-4F42-BB2C-C77C3CF8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B9D3-2218-4ED1-8A58-FEE4A486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6458-545C-499F-B8A8-BC4DB3C0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9E56-80CB-43C1-BF84-BF7FCDA5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8147-ECD5-46AE-AE16-D3C4872D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C254-AC28-42FB-BC84-D7E93B70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8B79-3764-4F6A-B9DF-A4ABBB37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799C-FEBA-4DF4-BC6C-84FEE3DE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749A-CE90-481B-9823-381139A1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31A0-335A-4B22-A054-F244BB7D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EA7E-8D9E-4307-BFD1-32E1C229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4929-23B4-48FB-9BD1-682072C0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C47D3-082F-4293-9663-1A8ACAD9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870F5-4A52-4F50-A67C-AB9E4A9A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526D7-2640-4451-B50A-B71A7919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A66E2-26A0-43C5-ACB8-4206D06C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911C0-DF09-4284-8D54-4C5B9B2C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0950-769C-4A9E-ACB6-229AE73B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1B2A5-4CC8-4B4B-90C7-90AA150C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AE5BB-A9CF-45C1-A1A0-E9D0D309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1B749-3F28-46DE-919D-1A1FA023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C32C0-2745-4E90-813D-D1A96911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58C36-14BC-41D0-9E42-D6A97438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7F7AD-F9A4-484F-8BFE-E3D04A4E0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3780E-832F-4642-9AAE-A3FED355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529F9-D6CA-4022-B8AC-DAA17828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E28D6-A9B6-4DEE-BB1B-84D073EF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AF711-147B-4BC1-96D5-866DC449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3DF-AC5D-42A1-A1E9-58077A61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E3C05-288E-49FC-99B3-0179C9B6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EA382-8FF3-4472-8CC5-049B04D5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CED2B-E669-4FA8-B727-8668F5AC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74130-D910-4283-AEA6-C93E9752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AEA83-B622-4379-9168-E157608C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F0458-AEB2-4B96-86DC-DE5F029E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88887-717D-4DAA-9926-209021FC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A8D57-7FE6-40D4-AE31-9669D0CA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C18C3-6CAF-4B3B-8A09-4438D19C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54A4E-7437-43DC-BEA6-4F924ED5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F01A-A8B4-4B81-A9F0-F8886F49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FF204-3A18-4A0B-832B-1EC5E9DF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93151-6E19-4B41-9479-D40E989A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676DF-8CBE-424F-9223-78D87F78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D11CD-7068-4E48-B696-E85FF516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4046D-00FC-472C-8B67-A4BFD304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A1015-A45D-4F8A-A0BA-3C0BAC47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796BB-8F53-4B3D-A9B6-C84E1CAF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AF86F-A911-4EB9-8597-88C44AE0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CDFAE-C0A5-44DC-A7F7-35E3DCB3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09B35-4151-403D-B2DB-CE7BC8DD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591-1B77-49A5-B2B5-75DE2755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56084-1CC1-48E1-A982-3188A42C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05497-841E-4915-BCAA-AB1E969C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138C7-924A-4E8B-8FD1-40197A13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9933C-0C49-404E-B189-1E7ED485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7475C-9B62-4219-AF1F-419FE41B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53971-5272-460A-92B5-DD0190C6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A91A2-D8EF-442A-AF99-B7856952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6DFA5-3B35-46BC-A6AF-365BC52F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3C521-8877-47EA-B9B6-CD90EEEE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319D3-E437-4B31-97A3-85A48143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AFC6-1DDF-436C-8884-2BD73D9A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21583-A621-4874-BAC5-4FC6FB63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0BEB3-0E27-4DE4-BBCF-9E28259D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C889D-0EA6-4529-9B69-B440AC58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1E403-A644-4626-9F45-8B04550C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AE7E5-A576-4D6D-8884-801C6155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30BD1-487D-4464-A406-C4EFC4D9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4D904-4B84-426A-8BA5-C8AF9414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66EB9-0B93-4B84-8079-7DA5F960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91A17-5177-41EA-B9E7-214F97CF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352B2-C6F0-40B4-8058-F4BDE508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57AF-C11F-41A5-B258-FE359E1C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5FB0D-76A6-46ED-979F-FA452E06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C0BDB-7C7D-4838-9E60-7A039864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46C5E-E55F-4DAB-B2C5-F3587B84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26396-DC87-4D2D-AA63-B3515FFF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FE2A0-A884-4AC5-B4A6-0418D901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98E61-3EF8-497E-B3E4-7F1F2270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71365-B4F9-49C6-ADD1-CE460CEE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5C69F-535A-409E-A579-BC9A61F7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B74DB-BB3A-415E-BBCF-7D0768B6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46E1B-4BB5-414D-9284-872FE8DC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9508-1B48-46FB-8CDB-DC824313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AB309-BD24-4DB0-A125-2C6034E3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59097-5D6B-4C6C-8F1C-F8705DD9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36288-DF8C-456A-8C6D-D4CB1246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A79A8-0FB8-4B77-A688-5500F486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69554-AD12-4B8D-A388-FBA9743B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F333D-EFCB-4259-8A2B-D0A215D1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DA9E1-7E1D-4CF8-9082-E2ECF2A3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3A31-DDA1-4EFD-94A3-C874EE0D8F46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CFDC-FCBA-4D33-A6CB-8FFCDAFAE6D9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ded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3ded1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B283-BC6D-4E72-83CD-AFA18D5DACF7}" type="slidenum">
              <a:rPr b="0" lang="en-US" sz="14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8BE3-9FF1-4DBB-84B4-762F49BD3C6A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9B64-1DE4-45CB-8191-BF697F544A13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B142-43E0-4EA5-B8C7-6897F93C2ACC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ded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3ded1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CFA3-ECB4-4A60-805B-4F316AA50D13}" type="slidenum">
              <a:rPr b="0" lang="en-US" sz="14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F790-ADA6-4023-8DCB-3CD8CD6B8E43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統計学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23232"/>
                </a:solidFill>
                <a:latin typeface="ＭＳ Ｐゴシック"/>
              </a:rPr>
              <a:t>第２回　統計の基礎２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ookman Old Style"/>
              </a:rPr>
              <a:t>平均・中央値・最頻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平均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357120" y="2643120"/>
            <a:ext cx="7863120" cy="281772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5"/>
          <p:cNvSpPr/>
          <p:nvPr/>
        </p:nvSpPr>
        <p:spPr>
          <a:xfrm>
            <a:off x="1928880" y="1500120"/>
            <a:ext cx="6172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ータの合計をデータ数で割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6"/>
          <p:cNvSpPr/>
          <p:nvPr/>
        </p:nvSpPr>
        <p:spPr>
          <a:xfrm>
            <a:off x="500040" y="157176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平均の計算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2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3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4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5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(100+200+300+400+500)÷5=300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2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3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4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50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(100+200+300+400+5000)÷5=1200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  <p:sp>
        <p:nvSpPr>
          <p:cNvPr id="393" name="雲形吹き出し 3"/>
          <p:cNvSpPr/>
          <p:nvPr/>
        </p:nvSpPr>
        <p:spPr>
          <a:xfrm>
            <a:off x="2786040" y="4286160"/>
            <a:ext cx="4857840" cy="2214720"/>
          </a:xfrm>
          <a:prstGeom prst="cloudCallout">
            <a:avLst>
              <a:gd name="adj1" fmla="val 17583"/>
              <a:gd name="adj2" fmla="val -7259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一人のお金持ちが「平均値」を引っ張ってしま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平均の性質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99640" y="1341000"/>
            <a:ext cx="80550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ヒストグラムが左右対称である場合、その対称軸の通る点が平均値にな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極端に外れている値があると、平均値はその値に「引っ張られて」しまう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平均＝データを平らに均した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中央値と最頻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04920" y="1642680"/>
            <a:ext cx="865008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中央値：データを小さい順に並べたときに丁度真ん中にくるデータ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最頻値：最も重い頻度で出てくる（階級の度数が高い）データ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357120" y="4071960"/>
            <a:ext cx="8458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図 7" descr=""/>
          <p:cNvPicPr/>
          <p:nvPr/>
        </p:nvPicPr>
        <p:blipFill>
          <a:blip r:embed="rId1"/>
          <a:stretch/>
        </p:blipFill>
        <p:spPr>
          <a:xfrm>
            <a:off x="928800" y="2071800"/>
            <a:ext cx="7500960" cy="4554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例（平均値、中央値、最頻値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曲線（度数折れ線）と代表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826560" y="1219320"/>
            <a:ext cx="78598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平均値：度数分布曲線の重心の横座標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座標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重心</a:t>
            </a:r>
            <a:r>
              <a:rPr b="0" lang="en-US" sz="2500" spc="-1" strike="noStrike">
                <a:solidFill>
                  <a:srgbClr val="323232"/>
                </a:solidFill>
                <a:latin typeface="Gill Sans MT"/>
              </a:rPr>
              <a:t>:</a:t>
            </a: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度数分布曲線を厚紙に書き写して切ったものを作成したときに、厚紙の釣り合いがとれる場所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中央値：度数分布曲線と横軸とで囲まれた部分の面積を考えたとき、面積をちょうど半分にする縦線の横座標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座標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最頻値：山の頂上の横座標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座標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中央値の利用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04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8FEC-94BF-49A5-B923-FF50EF59EC45}" type="slidenum">
              <a:rPr b="0" lang="ja-JP" sz="1400" spc="-1" strike="noStrike">
                <a:solidFill>
                  <a:srgbClr val="3232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94920" y="1413000"/>
            <a:ext cx="8319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相対的貧困率：所得の</a:t>
            </a:r>
            <a:r>
              <a:rPr b="0" lang="ja-JP" sz="3600" spc="-1" strike="noStrike">
                <a:solidFill>
                  <a:srgbClr val="ff0000"/>
                </a:solidFill>
                <a:latin typeface="Gill Sans MT"/>
              </a:rPr>
              <a:t>中央値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の半分以下の所得しかない世帯の割合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所得＝可処分所得（実際に使える金額）を世帯の人数に応じて調整した額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中央値を使うことで、異常な値の影響を避ける効果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但し、中央値を使う場合、</a:t>
            </a:r>
            <a:r>
              <a:rPr b="0" lang="ja-JP" sz="3200" spc="-1" strike="noStrike" u="sng">
                <a:solidFill>
                  <a:srgbClr val="323232"/>
                </a:solidFill>
                <a:uFillTx/>
                <a:latin typeface="Gill Sans MT"/>
              </a:rPr>
              <a:t>中間層が崩壊すると相対的貧困率は改善される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という弱点があ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相対的貧困率の計算あれこれ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42560" y="1268280"/>
            <a:ext cx="892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トップ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割が金持ち国”の場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2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その半分が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55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貧困率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下位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割が貧乏人国”の場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8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6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3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8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その半分が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49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貧困率は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2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3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の人の給料を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2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上げるか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8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と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6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の人を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59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にすれば、相対的貧困率は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になる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表から平均を計算す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（階級値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×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相対度数）の合計＝平均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（「階級値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×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度数」の合計）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÷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総数でも良い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但し、生データから計算した平均値と、度数分布表から計算した平均値は若干ずれ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度数分布表はデータの縮約の結果なので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でもまあ、実用に耐えうる範囲内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授業内容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平均・中央値・最頻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順序統計量と箱ひげ図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分散と標準偏差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表から平均の計算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4902480" cy="269244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4"/>
          <p:cNvSpPr/>
          <p:nvPr/>
        </p:nvSpPr>
        <p:spPr>
          <a:xfrm>
            <a:off x="533520" y="5029200"/>
            <a:ext cx="8076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級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度数の計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6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度数分布表からの平均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7.7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5"/>
          <p:cNvSpPr/>
          <p:nvPr/>
        </p:nvSpPr>
        <p:spPr>
          <a:xfrm>
            <a:off x="6324480" y="2971800"/>
            <a:ext cx="2590920" cy="2286000"/>
          </a:xfrm>
          <a:prstGeom prst="wedgeRectCallout">
            <a:avLst>
              <a:gd name="adj1" fmla="val -92097"/>
              <a:gd name="adj2" fmla="val 502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階級の中に入っているデータは全て階級値の値であるとみて計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ookman Old Style"/>
              </a:rPr>
              <a:t>順序統計量と箱ひげ図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順序統計量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09480" y="1557360"/>
            <a:ext cx="83455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を、値の小さい順に並べたときの統計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最大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最小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四分位値（四分位数）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レンジ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四分位範囲・四分位偏差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レンジ（範囲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18" name="Picture 3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105520" cy="56052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4"/>
          <p:cNvSpPr/>
          <p:nvPr/>
        </p:nvSpPr>
        <p:spPr>
          <a:xfrm>
            <a:off x="1476360" y="24210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が分布する幅を表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457200" y="36450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計算が楽なので、データが小さい時は分散の代わりとして役に立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も、最大値と最小値以外のデータは無視することになるので、データが大きい時に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中央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560" y="1557360"/>
            <a:ext cx="845820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中央値：データを小さい順に並べたときに丁度真ん中にくるデータ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もちろん、「大きい順に並べたときに丁度真ん中にくる値」でも可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8458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四分位値（四分位数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四分位値（四分位数）：データを小さい順に並べ、</a:t>
            </a:r>
            <a:r>
              <a:rPr b="0" lang="ja-JP" sz="3200" spc="-1" strike="noStrike">
                <a:solidFill>
                  <a:srgbClr val="ff0000"/>
                </a:solidFill>
                <a:latin typeface="Gill Sans MT"/>
              </a:rPr>
              <a:t>四等分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したとき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３（上側）四分位値：中央値で２つに分けたデータの、上半分の中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１（下側）四分位値：中央値で２つに分けたデータの、下半分の中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四分位範囲：第３（上側）四分位値と第１（下側）四分位値の差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2802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五数要約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79280" y="1267920"/>
            <a:ext cx="8640720" cy="53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五数要約：最小値、第１四分位数、中央値、第３四分位数、最小値の５つの統計量でデータを説明すること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最小値：一番小さい値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最大値：一番大きい値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範囲：最大値－最小値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中央値：データを小さい順に並べたときに真ん中にくる値（第２四分位数）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四分位数：データを小さい順に並べ、</a:t>
            </a:r>
            <a:r>
              <a:rPr b="1" lang="ja-JP" sz="2500" spc="-1" strike="noStrike">
                <a:solidFill>
                  <a:srgbClr val="ff0000"/>
                </a:solidFill>
                <a:latin typeface="Gill Sans MT"/>
              </a:rPr>
              <a:t>四等分</a:t>
            </a: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したときの値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第１四分位数：中央値で２つに分けたデータの、下半分の中央値（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25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％）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第３四分位数：中央値で２つに分けたデータの、上半分の中央値（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75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％）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四分位範囲：第３（上側）四分位数と第１（下側）四分位数との差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四分位偏差：四分位範囲の半分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13916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高校の教科書では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22360" y="1413000"/>
            <a:ext cx="83692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データの個数が偶数個の場合、中央値で２つのグループに分け、それぞれのグループの中央値を四分位値にす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データの個数が奇数個の場合、中央値を除外して２つのグループに分け、それぞれのグループの中央値を四分位値にす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" name="図 1" descr=""/>
          <p:cNvPicPr/>
          <p:nvPr/>
        </p:nvPicPr>
        <p:blipFill>
          <a:blip r:embed="rId1"/>
          <a:stretch/>
        </p:blipFill>
        <p:spPr>
          <a:xfrm>
            <a:off x="1979640" y="3429000"/>
            <a:ext cx="54529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EXCEL</a:t>
            </a: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による四分位値の計算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55280" y="1277640"/>
            <a:ext cx="820908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１（下側）四分位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QUAR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1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PERCEN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0.25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３（上側）四分位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QUAR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3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PERCEN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0.75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433" name="Picture 6" descr=""/>
          <p:cNvPicPr/>
          <p:nvPr/>
        </p:nvPicPr>
        <p:blipFill>
          <a:blip r:embed="rId1"/>
          <a:stretch/>
        </p:blipFill>
        <p:spPr>
          <a:xfrm>
            <a:off x="1187280" y="4076640"/>
            <a:ext cx="6856560" cy="2158920"/>
          </a:xfrm>
          <a:prstGeom prst="rect">
            <a:avLst/>
          </a:prstGeom>
          <a:ln w="0">
            <a:noFill/>
          </a:ln>
        </p:spPr>
      </p:pic>
      <p:sp>
        <p:nvSpPr>
          <p:cNvPr id="434" name="角丸四角形吹き出し 1"/>
          <p:cNvSpPr/>
          <p:nvPr/>
        </p:nvSpPr>
        <p:spPr>
          <a:xfrm>
            <a:off x="5364000" y="2637000"/>
            <a:ext cx="3672000" cy="1008000"/>
          </a:xfrm>
          <a:prstGeom prst="wedgeRoundRectCallout">
            <a:avLst>
              <a:gd name="adj1" fmla="val -25541"/>
              <a:gd name="adj2" fmla="val 105185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パーセント点の計算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合わせ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74280" y="404640"/>
            <a:ext cx="77202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EXCEL</a:t>
            </a: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と数学</a:t>
            </a: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I</a:t>
            </a: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での４分位の違い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36" name="図 3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105080" cy="2089080"/>
          </a:xfrm>
          <a:prstGeom prst="rect">
            <a:avLst/>
          </a:prstGeom>
          <a:ln w="0">
            <a:noFill/>
          </a:ln>
        </p:spPr>
      </p:pic>
      <p:pic>
        <p:nvPicPr>
          <p:cNvPr id="437" name="図 5" descr=""/>
          <p:cNvPicPr/>
          <p:nvPr/>
        </p:nvPicPr>
        <p:blipFill>
          <a:blip r:embed="rId2"/>
          <a:stretch/>
        </p:blipFill>
        <p:spPr>
          <a:xfrm>
            <a:off x="644400" y="3933720"/>
            <a:ext cx="4037040" cy="20512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4971960" y="1773000"/>
            <a:ext cx="31291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上：数学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下：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C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データの特徴を捉えるには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グラフ化してその特徴を捉え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統計図表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ヒストグラム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一つの数字で特徴を代表させる（統計量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平均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分散、標準偏差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etc</a:t>
            </a:r>
            <a:r>
              <a:rPr b="0" lang="en-US" sz="2800" spc="-1" strike="noStrike">
                <a:solidFill>
                  <a:srgbClr val="323232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計算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9280" y="134100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データ：　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2,3,5,7,11,13,17,19,23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最小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最大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3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中央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1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第１（下側）４分位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8×0.2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＋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＝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3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番目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Gill Sans MT"/>
              </a:rPr>
              <a:t>高校の教科書通り計算すると、</a:t>
            </a: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第３（上側）４分位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7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8×0.7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＋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＝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7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番目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Gill Sans MT"/>
              </a:rPr>
              <a:t>高校の教科書通り計算すると、</a:t>
            </a: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18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レンジ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1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　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3-2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四分位範囲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2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　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7-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graphicFrame>
        <p:nvGraphicFramePr>
          <p:cNvPr id="442" name="Object 3"/>
          <p:cNvGraphicFramePr/>
          <p:nvPr/>
        </p:nvGraphicFramePr>
        <p:xfrm>
          <a:off x="152280" y="2133720"/>
          <a:ext cx="8763120" cy="26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33720"/>
                    <a:ext cx="8763120" cy="26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Text Box 4"/>
          <p:cNvSpPr/>
          <p:nvPr/>
        </p:nvSpPr>
        <p:spPr>
          <a:xfrm>
            <a:off x="685800" y="5029200"/>
            <a:ext cx="75438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箱ひげ図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 Wisker Diagra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：順序統計量を用いてデータのばらつきや偏りを表した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と四分位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箱ひげ図：四分位数を利用して描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色々な描き方があ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四分位の計算方法による違い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ひげの伸ばし方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最大値、最小値まで（外れ値を考えない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四分位範囲の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.5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倍を利用（外れ値を考える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パーセント点（データの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％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・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％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が表すも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graphicFrame>
        <p:nvGraphicFramePr>
          <p:cNvPr id="448" name="Object 3"/>
          <p:cNvGraphicFramePr/>
          <p:nvPr/>
        </p:nvGraphicFramePr>
        <p:xfrm>
          <a:off x="142920" y="3143160"/>
          <a:ext cx="8763120" cy="26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3143160"/>
                    <a:ext cx="8763120" cy="26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線吹き出し 1 (枠付き) 4"/>
          <p:cNvSpPr/>
          <p:nvPr/>
        </p:nvSpPr>
        <p:spPr>
          <a:xfrm>
            <a:off x="142920" y="1484280"/>
            <a:ext cx="2341440" cy="1587600"/>
          </a:xfrm>
          <a:prstGeom prst="borderCallout1">
            <a:avLst>
              <a:gd name="adj1" fmla="val 18750"/>
              <a:gd name="adj2" fmla="val -8333"/>
              <a:gd name="adj3" fmla="val 164379"/>
              <a:gd name="adj4" fmla="val 1675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下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分位値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４分位範囲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5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倍下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下側限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線吹き出し 1 (枠付き) 5"/>
          <p:cNvSpPr/>
          <p:nvPr/>
        </p:nvSpPr>
        <p:spPr>
          <a:xfrm>
            <a:off x="7215120" y="6000840"/>
            <a:ext cx="1143000" cy="500040"/>
          </a:xfrm>
          <a:prstGeom prst="borderCallout1">
            <a:avLst>
              <a:gd name="adj1" fmla="val 18750"/>
              <a:gd name="adj2" fmla="val -8333"/>
              <a:gd name="adj3" fmla="val -350018"/>
              <a:gd name="adj4" fmla="val -385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外れ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線吹き出し 1 (枠付き) 6"/>
          <p:cNvSpPr/>
          <p:nvPr/>
        </p:nvSpPr>
        <p:spPr>
          <a:xfrm>
            <a:off x="2678040" y="1515960"/>
            <a:ext cx="2214720" cy="785880"/>
          </a:xfrm>
          <a:prstGeom prst="borderCallout1">
            <a:avLst>
              <a:gd name="adj1" fmla="val 18750"/>
              <a:gd name="adj2" fmla="val -8333"/>
              <a:gd name="adj3" fmla="val 310314"/>
              <a:gd name="adj4" fmla="val -74444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外れ値を除い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最小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線吹き出し 1 (枠付き) 7"/>
          <p:cNvSpPr/>
          <p:nvPr/>
        </p:nvSpPr>
        <p:spPr>
          <a:xfrm>
            <a:off x="4133880" y="2363760"/>
            <a:ext cx="2214360" cy="785880"/>
          </a:xfrm>
          <a:prstGeom prst="borderCallout1">
            <a:avLst>
              <a:gd name="adj1" fmla="val 18750"/>
              <a:gd name="adj2" fmla="val -8333"/>
              <a:gd name="adj3" fmla="val 208763"/>
              <a:gd name="adj4" fmla="val 21263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外れ値を除い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最大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線吹き出し 1 (枠付き) 8"/>
          <p:cNvSpPr/>
          <p:nvPr/>
        </p:nvSpPr>
        <p:spPr>
          <a:xfrm>
            <a:off x="6445080" y="1555920"/>
            <a:ext cx="2341800" cy="1587240"/>
          </a:xfrm>
          <a:prstGeom prst="borderCallout1">
            <a:avLst>
              <a:gd name="adj1" fmla="val 18750"/>
              <a:gd name="adj2" fmla="val -8333"/>
              <a:gd name="adj3" fmla="val 164597"/>
              <a:gd name="adj4" fmla="val -54763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上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分位値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分位範囲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5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倍上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（上側限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線吹き出し 1 (枠付き) 9"/>
          <p:cNvSpPr/>
          <p:nvPr/>
        </p:nvSpPr>
        <p:spPr>
          <a:xfrm>
            <a:off x="5286240" y="5857920"/>
            <a:ext cx="1285920" cy="785880"/>
          </a:xfrm>
          <a:prstGeom prst="borderCallout1">
            <a:avLst>
              <a:gd name="adj1" fmla="val 18750"/>
              <a:gd name="adj2" fmla="val -8333"/>
              <a:gd name="adj3" fmla="val -193810"/>
              <a:gd name="adj4" fmla="val -147092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上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分位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線吹き出し 1 (枠付き) 10"/>
          <p:cNvSpPr/>
          <p:nvPr/>
        </p:nvSpPr>
        <p:spPr>
          <a:xfrm>
            <a:off x="214200" y="5857920"/>
            <a:ext cx="1285920" cy="785880"/>
          </a:xfrm>
          <a:prstGeom prst="borderCallout1">
            <a:avLst>
              <a:gd name="adj1" fmla="val 18750"/>
              <a:gd name="adj2" fmla="val -8333"/>
              <a:gd name="adj3" fmla="val -157870"/>
              <a:gd name="adj4" fmla="val 156949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下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分位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線吹き出し 1 (枠付き) 11"/>
          <p:cNvSpPr/>
          <p:nvPr/>
        </p:nvSpPr>
        <p:spPr>
          <a:xfrm>
            <a:off x="2857680" y="6000840"/>
            <a:ext cx="1285560" cy="571320"/>
          </a:xfrm>
          <a:prstGeom prst="borderCallout1">
            <a:avLst>
              <a:gd name="adj1" fmla="val 18750"/>
              <a:gd name="adj2" fmla="val -8333"/>
              <a:gd name="adj3" fmla="val -209421"/>
              <a:gd name="adj4" fmla="val -2324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中央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図 4" descr=""/>
          <p:cNvPicPr/>
          <p:nvPr/>
        </p:nvPicPr>
        <p:blipFill>
          <a:blip r:embed="rId1"/>
          <a:stretch/>
        </p:blipFill>
        <p:spPr>
          <a:xfrm>
            <a:off x="592200" y="836640"/>
            <a:ext cx="5819760" cy="561672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7684920" cy="13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身長データを用いた</a:t>
            </a:r>
            <a:br>
              <a:rPr sz="3200"/>
            </a:b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の作成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60" name="Picture 1027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095560" cy="6375240"/>
          </a:xfrm>
          <a:prstGeom prst="rect">
            <a:avLst/>
          </a:prstGeom>
          <a:ln w="0">
            <a:noFill/>
          </a:ln>
        </p:spPr>
      </p:pic>
      <p:sp>
        <p:nvSpPr>
          <p:cNvPr id="461" name="直線コネクタ 6"/>
          <p:cNvSpPr/>
          <p:nvPr/>
        </p:nvSpPr>
        <p:spPr>
          <a:xfrm>
            <a:off x="3564000" y="3645000"/>
            <a:ext cx="0" cy="187164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直線コネクタ 7"/>
          <p:cNvSpPr/>
          <p:nvPr/>
        </p:nvSpPr>
        <p:spPr>
          <a:xfrm flipH="1">
            <a:off x="4356000" y="3645000"/>
            <a:ext cx="7920" cy="186372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線コネクタ 9"/>
          <p:cNvSpPr/>
          <p:nvPr/>
        </p:nvSpPr>
        <p:spPr>
          <a:xfrm>
            <a:off x="2916360" y="3645000"/>
            <a:ext cx="0" cy="187164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線コネクタ 11"/>
          <p:cNvSpPr/>
          <p:nvPr/>
        </p:nvSpPr>
        <p:spPr>
          <a:xfrm>
            <a:off x="2916360" y="3645000"/>
            <a:ext cx="143964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線コネクタ 12"/>
          <p:cNvSpPr/>
          <p:nvPr/>
        </p:nvSpPr>
        <p:spPr>
          <a:xfrm>
            <a:off x="2916360" y="5445000"/>
            <a:ext cx="143964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線コネクタ 14"/>
          <p:cNvSpPr/>
          <p:nvPr/>
        </p:nvSpPr>
        <p:spPr>
          <a:xfrm>
            <a:off x="826920" y="4292640"/>
            <a:ext cx="0" cy="936720"/>
          </a:xfrm>
          <a:prstGeom prst="line">
            <a:avLst/>
          </a:prstGeom>
          <a:ln w="38160">
            <a:solidFill>
              <a:srgbClr val="f07f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線コネクタ 15"/>
          <p:cNvSpPr/>
          <p:nvPr/>
        </p:nvSpPr>
        <p:spPr>
          <a:xfrm>
            <a:off x="6227640" y="4292640"/>
            <a:ext cx="0" cy="936720"/>
          </a:xfrm>
          <a:prstGeom prst="line">
            <a:avLst/>
          </a:prstGeom>
          <a:ln w="38160">
            <a:solidFill>
              <a:srgbClr val="f07f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線コネクタ 18"/>
          <p:cNvSpPr/>
          <p:nvPr/>
        </p:nvSpPr>
        <p:spPr>
          <a:xfrm>
            <a:off x="1332000" y="4076640"/>
            <a:ext cx="0" cy="108108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線コネクタ 19"/>
          <p:cNvSpPr/>
          <p:nvPr/>
        </p:nvSpPr>
        <p:spPr>
          <a:xfrm>
            <a:off x="6012000" y="4221000"/>
            <a:ext cx="0" cy="107964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線コネクタ 21"/>
          <p:cNvSpPr/>
          <p:nvPr/>
        </p:nvSpPr>
        <p:spPr>
          <a:xfrm>
            <a:off x="1332000" y="4581360"/>
            <a:ext cx="158436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線コネクタ 22"/>
          <p:cNvSpPr/>
          <p:nvPr/>
        </p:nvSpPr>
        <p:spPr>
          <a:xfrm>
            <a:off x="4284720" y="4581360"/>
            <a:ext cx="172728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Chart 1" descr=""/>
          <p:cNvPicPr/>
          <p:nvPr/>
        </p:nvPicPr>
        <p:blipFill>
          <a:blip r:embed="rId3"/>
          <a:stretch/>
        </p:blipFill>
        <p:spPr>
          <a:xfrm>
            <a:off x="176040" y="695160"/>
            <a:ext cx="648684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8360" y="184320"/>
            <a:ext cx="7603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とドットプロットと</a:t>
            </a:r>
            <a:br>
              <a:rPr sz="3200"/>
            </a:b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ヒストグラム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74" name="図 3" descr=""/>
          <p:cNvPicPr/>
          <p:nvPr/>
        </p:nvPicPr>
        <p:blipFill>
          <a:blip r:embed="rId1"/>
          <a:stretch/>
        </p:blipFill>
        <p:spPr>
          <a:xfrm>
            <a:off x="630360" y="1268280"/>
            <a:ext cx="3959280" cy="3083040"/>
          </a:xfrm>
          <a:prstGeom prst="rect">
            <a:avLst/>
          </a:prstGeom>
          <a:ln w="0">
            <a:noFill/>
          </a:ln>
        </p:spPr>
      </p:pic>
      <p:pic>
        <p:nvPicPr>
          <p:cNvPr id="475" name="図 4" descr=""/>
          <p:cNvPicPr/>
          <p:nvPr/>
        </p:nvPicPr>
        <p:blipFill>
          <a:blip r:embed="rId2"/>
          <a:stretch/>
        </p:blipFill>
        <p:spPr>
          <a:xfrm>
            <a:off x="5119560" y="1719360"/>
            <a:ext cx="3600720" cy="21715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372960" y="5721480"/>
            <a:ext cx="839808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四分位数：データを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25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％ずつに分ける（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等分）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ヒストグラムの棒の面積・ドットプロットの点の個数も、四分位数で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等分されている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77" name="図 7" descr=""/>
          <p:cNvPicPr/>
          <p:nvPr/>
        </p:nvPicPr>
        <p:blipFill>
          <a:blip r:embed="rId3"/>
          <a:stretch/>
        </p:blipFill>
        <p:spPr>
          <a:xfrm>
            <a:off x="5119560" y="4103640"/>
            <a:ext cx="3600720" cy="1300320"/>
          </a:xfrm>
          <a:prstGeom prst="rect">
            <a:avLst/>
          </a:prstGeom>
          <a:ln w="0">
            <a:noFill/>
          </a:ln>
        </p:spPr>
      </p:pic>
      <p:pic>
        <p:nvPicPr>
          <p:cNvPr id="478" name="図 8" descr=""/>
          <p:cNvPicPr/>
          <p:nvPr/>
        </p:nvPicPr>
        <p:blipFill>
          <a:blip r:embed="rId4"/>
          <a:stretch/>
        </p:blipFill>
        <p:spPr>
          <a:xfrm>
            <a:off x="1187280" y="4410000"/>
            <a:ext cx="2953080" cy="1065240"/>
          </a:xfrm>
          <a:prstGeom prst="rect">
            <a:avLst/>
          </a:prstGeom>
          <a:ln w="0">
            <a:noFill/>
          </a:ln>
        </p:spPr>
      </p:pic>
      <p:sp>
        <p:nvSpPr>
          <p:cNvPr id="479" name="直線コネクタ 10"/>
          <p:cNvSpPr/>
          <p:nvPr/>
        </p:nvSpPr>
        <p:spPr>
          <a:xfrm>
            <a:off x="2862360" y="1855800"/>
            <a:ext cx="0" cy="2730600"/>
          </a:xfrm>
          <a:prstGeom prst="line">
            <a:avLst/>
          </a:prstGeom>
          <a:ln w="572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直線コネクタ 12"/>
          <p:cNvSpPr/>
          <p:nvPr/>
        </p:nvSpPr>
        <p:spPr>
          <a:xfrm>
            <a:off x="3149640" y="1847880"/>
            <a:ext cx="0" cy="2730600"/>
          </a:xfrm>
          <a:prstGeom prst="line">
            <a:avLst/>
          </a:prstGeom>
          <a:ln w="572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直線コネクタ 13"/>
          <p:cNvSpPr/>
          <p:nvPr/>
        </p:nvSpPr>
        <p:spPr>
          <a:xfrm>
            <a:off x="2573280" y="1855800"/>
            <a:ext cx="0" cy="2730600"/>
          </a:xfrm>
          <a:prstGeom prst="line">
            <a:avLst/>
          </a:prstGeom>
          <a:ln w="572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テキスト ボックス 15"/>
          <p:cNvSpPr/>
          <p:nvPr/>
        </p:nvSpPr>
        <p:spPr>
          <a:xfrm>
            <a:off x="1892160" y="36781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25</a:t>
            </a: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テキスト ボックス 16"/>
          <p:cNvSpPr/>
          <p:nvPr/>
        </p:nvSpPr>
        <p:spPr>
          <a:xfrm>
            <a:off x="2484360" y="3102120"/>
            <a:ext cx="6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25</a:t>
            </a: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テキスト ボックス 17"/>
          <p:cNvSpPr/>
          <p:nvPr/>
        </p:nvSpPr>
        <p:spPr>
          <a:xfrm>
            <a:off x="2828880" y="238284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25</a:t>
            </a: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テキスト ボックス 18"/>
          <p:cNvSpPr/>
          <p:nvPr/>
        </p:nvSpPr>
        <p:spPr>
          <a:xfrm>
            <a:off x="3373560" y="34624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25</a:t>
            </a: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テキスト ボックス 19"/>
          <p:cNvSpPr/>
          <p:nvPr/>
        </p:nvSpPr>
        <p:spPr>
          <a:xfrm>
            <a:off x="5975280" y="23320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25</a:t>
            </a: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テキスト ボックス 20"/>
          <p:cNvSpPr/>
          <p:nvPr/>
        </p:nvSpPr>
        <p:spPr>
          <a:xfrm>
            <a:off x="6778800" y="271944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25</a:t>
            </a: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テキスト ボックス 21"/>
          <p:cNvSpPr/>
          <p:nvPr/>
        </p:nvSpPr>
        <p:spPr>
          <a:xfrm>
            <a:off x="7110360" y="2138400"/>
            <a:ext cx="6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25</a:t>
            </a: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テキスト ボックス 22"/>
          <p:cNvSpPr/>
          <p:nvPr/>
        </p:nvSpPr>
        <p:spPr>
          <a:xfrm>
            <a:off x="7740720" y="2332080"/>
            <a:ext cx="66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25</a:t>
            </a:r>
            <a:r>
              <a:rPr b="1" lang="ja-JP" sz="1600" spc="-1" strike="noStrike">
                <a:solidFill>
                  <a:srgbClr val="002060"/>
                </a:solidFill>
                <a:latin typeface="Calibri"/>
              </a:rPr>
              <a:t>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パーセント点（パーセンタイル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41300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を小さい順に並べた時、その値よりも小さな値の割合が指定された割合になる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：その値より小さいデータが全体の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になる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5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＝中央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＝最小値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=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最大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上側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4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分位値＝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75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、下側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4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分位値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=25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グラフ 11" descr=""/>
          <p:cNvPicPr/>
          <p:nvPr/>
        </p:nvPicPr>
        <p:blipFill>
          <a:blip r:embed="rId1"/>
          <a:stretch/>
        </p:blipFill>
        <p:spPr>
          <a:xfrm>
            <a:off x="2975040" y="1847880"/>
            <a:ext cx="5651280" cy="366876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360" y="348840"/>
            <a:ext cx="7597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累積相対度数と箱ひげ図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58400" y="1413000"/>
            <a:ext cx="25844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累積相対度数で度数折れ線を描く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四分位数、パーセント点がどの辺りにあるか分か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箱ひげ図が描け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楕円 4"/>
          <p:cNvSpPr/>
          <p:nvPr/>
        </p:nvSpPr>
        <p:spPr>
          <a:xfrm>
            <a:off x="2933640" y="3648240"/>
            <a:ext cx="333360" cy="215640"/>
          </a:xfrm>
          <a:prstGeom prst="ellipse">
            <a:avLst/>
          </a:prstGeom>
          <a:noFill/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6" name="直線矢印コネクタ 6"/>
          <p:cNvCxnSpPr/>
          <p:nvPr/>
        </p:nvCxnSpPr>
        <p:spPr>
          <a:xfrm>
            <a:off x="3296880" y="3755520"/>
            <a:ext cx="2592720" cy="1080"/>
          </a:xfrm>
          <a:prstGeom prst="straightConnector1">
            <a:avLst/>
          </a:prstGeom>
          <a:ln w="44280">
            <a:solidFill>
              <a:srgbClr val="f07f09"/>
            </a:solidFill>
            <a:miter/>
            <a:tailEnd len="med" type="triangle" w="med"/>
          </a:ln>
        </p:spPr>
      </p:cxnSp>
      <p:cxnSp>
        <p:nvCxnSpPr>
          <p:cNvPr id="497" name="直線矢印コネクタ 9"/>
          <p:cNvCxnSpPr/>
          <p:nvPr/>
        </p:nvCxnSpPr>
        <p:spPr>
          <a:xfrm>
            <a:off x="5876640" y="3755880"/>
            <a:ext cx="1080" cy="1512000"/>
          </a:xfrm>
          <a:prstGeom prst="straightConnector1">
            <a:avLst/>
          </a:prstGeom>
          <a:ln w="44280">
            <a:solidFill>
              <a:srgbClr val="f07f09"/>
            </a:solidFill>
            <a:miter/>
            <a:tailEnd len="med" type="triangle" w="med"/>
          </a:ln>
        </p:spPr>
      </p:cxnSp>
      <p:sp>
        <p:nvSpPr>
          <p:cNvPr id="498" name="楕円 8"/>
          <p:cNvSpPr/>
          <p:nvPr/>
        </p:nvSpPr>
        <p:spPr>
          <a:xfrm>
            <a:off x="2963880" y="2919240"/>
            <a:ext cx="333360" cy="216000"/>
          </a:xfrm>
          <a:prstGeom prst="ellipse">
            <a:avLst/>
          </a:prstGeom>
          <a:noFill/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楕円 12"/>
          <p:cNvSpPr/>
          <p:nvPr/>
        </p:nvSpPr>
        <p:spPr>
          <a:xfrm>
            <a:off x="2976480" y="4398840"/>
            <a:ext cx="333360" cy="216000"/>
          </a:xfrm>
          <a:prstGeom prst="ellipse">
            <a:avLst/>
          </a:prstGeom>
          <a:noFill/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0" name="直線矢印コネクタ 13"/>
          <p:cNvCxnSpPr/>
          <p:nvPr/>
        </p:nvCxnSpPr>
        <p:spPr>
          <a:xfrm>
            <a:off x="3297240" y="3031920"/>
            <a:ext cx="3053520" cy="1080"/>
          </a:xfrm>
          <a:prstGeom prst="straightConnector1">
            <a:avLst/>
          </a:prstGeom>
          <a:ln w="44280">
            <a:solidFill>
              <a:srgbClr val="f07f09"/>
            </a:solidFill>
            <a:miter/>
            <a:tailEnd len="med" type="triangle" w="med"/>
          </a:ln>
        </p:spPr>
      </p:cxnSp>
      <p:cxnSp>
        <p:nvCxnSpPr>
          <p:cNvPr id="501" name="直線矢印コネクタ 14"/>
          <p:cNvCxnSpPr/>
          <p:nvPr/>
        </p:nvCxnSpPr>
        <p:spPr>
          <a:xfrm>
            <a:off x="3309480" y="4506480"/>
            <a:ext cx="2042280" cy="1080"/>
          </a:xfrm>
          <a:prstGeom prst="straightConnector1">
            <a:avLst/>
          </a:prstGeom>
          <a:ln w="44280">
            <a:solidFill>
              <a:srgbClr val="f07f09"/>
            </a:solidFill>
            <a:miter/>
            <a:tailEnd len="med" type="triangle" w="med"/>
          </a:ln>
        </p:spPr>
      </p:cxnSp>
      <p:cxnSp>
        <p:nvCxnSpPr>
          <p:cNvPr id="502" name="直線矢印コネクタ 15"/>
          <p:cNvCxnSpPr/>
          <p:nvPr/>
        </p:nvCxnSpPr>
        <p:spPr>
          <a:xfrm>
            <a:off x="5334120" y="4511520"/>
            <a:ext cx="2160" cy="766080"/>
          </a:xfrm>
          <a:prstGeom prst="straightConnector1">
            <a:avLst/>
          </a:prstGeom>
          <a:ln w="44280">
            <a:solidFill>
              <a:srgbClr val="f07f09"/>
            </a:solidFill>
            <a:miter/>
            <a:tailEnd len="med" type="triangle" w="med"/>
          </a:ln>
        </p:spPr>
      </p:cxnSp>
      <p:cxnSp>
        <p:nvCxnSpPr>
          <p:cNvPr id="503" name="直線矢印コネクタ 16"/>
          <p:cNvCxnSpPr/>
          <p:nvPr/>
        </p:nvCxnSpPr>
        <p:spPr>
          <a:xfrm>
            <a:off x="6333840" y="3019320"/>
            <a:ext cx="1080" cy="2248560"/>
          </a:xfrm>
          <a:prstGeom prst="straightConnector1">
            <a:avLst/>
          </a:prstGeom>
          <a:ln w="44280">
            <a:solidFill>
              <a:srgbClr val="f07f09"/>
            </a:solidFill>
            <a:miter/>
            <a:tailEnd len="med" type="triangle" w="med"/>
          </a:ln>
        </p:spPr>
      </p:cxnSp>
      <p:sp>
        <p:nvSpPr>
          <p:cNvPr id="504" name="直線コネクタ 19"/>
          <p:cNvSpPr/>
          <p:nvPr/>
        </p:nvSpPr>
        <p:spPr>
          <a:xfrm>
            <a:off x="5877000" y="5446800"/>
            <a:ext cx="0" cy="64440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直線コネクタ 21"/>
          <p:cNvSpPr/>
          <p:nvPr/>
        </p:nvSpPr>
        <p:spPr>
          <a:xfrm>
            <a:off x="5334120" y="5446800"/>
            <a:ext cx="0" cy="64440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直線コネクタ 22"/>
          <p:cNvSpPr/>
          <p:nvPr/>
        </p:nvSpPr>
        <p:spPr>
          <a:xfrm>
            <a:off x="6334200" y="5446800"/>
            <a:ext cx="0" cy="64440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線コネクタ 23"/>
          <p:cNvSpPr/>
          <p:nvPr/>
        </p:nvSpPr>
        <p:spPr>
          <a:xfrm>
            <a:off x="5326200" y="5445000"/>
            <a:ext cx="1008000" cy="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直線コネクタ 25"/>
          <p:cNvSpPr/>
          <p:nvPr/>
        </p:nvSpPr>
        <p:spPr>
          <a:xfrm>
            <a:off x="5322960" y="6075360"/>
            <a:ext cx="1009440" cy="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直線コネクタ 26"/>
          <p:cNvSpPr/>
          <p:nvPr/>
        </p:nvSpPr>
        <p:spPr>
          <a:xfrm>
            <a:off x="3967200" y="5446800"/>
            <a:ext cx="0" cy="64440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直線コネクタ 27"/>
          <p:cNvSpPr/>
          <p:nvPr/>
        </p:nvSpPr>
        <p:spPr>
          <a:xfrm>
            <a:off x="7970760" y="5446800"/>
            <a:ext cx="0" cy="64440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直線コネクタ 28"/>
          <p:cNvSpPr/>
          <p:nvPr/>
        </p:nvSpPr>
        <p:spPr>
          <a:xfrm>
            <a:off x="3967200" y="5769000"/>
            <a:ext cx="1347840" cy="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直線コネクタ 30"/>
          <p:cNvSpPr/>
          <p:nvPr/>
        </p:nvSpPr>
        <p:spPr>
          <a:xfrm>
            <a:off x="6332400" y="5769000"/>
            <a:ext cx="1638360" cy="0"/>
          </a:xfrm>
          <a:prstGeom prst="line">
            <a:avLst/>
          </a:prstGeom>
          <a:ln w="381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を使うと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11280" y="1268280"/>
            <a:ext cx="815184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散らばり具合、集中具合が一目で分か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中央値の位置により、データが対称かそうでないかを知ることができ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四分位値と四分位範囲を使った基準により、外れ値を見つけ、表示することができ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三つ以上のデータ集合を比較するのに便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つ以上の項目で層別されたデータを表すのに便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072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の見方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50520" y="1412640"/>
            <a:ext cx="8304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箱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大きさ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真ん中の線（中央値）の位置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ひげ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長さ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対称性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全体的に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大きさ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外れ値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対称性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統計量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09120" y="2642760"/>
            <a:ext cx="807732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どんな類の特徴を要約したいのか？　によって、様々な統計量が存在す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平均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分散、標準偏差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、最頻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357120" y="164304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285920" y="1571760"/>
            <a:ext cx="7477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ータの特徴を一つの数字に要約した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の強み、ヒストグラムの強み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81080" y="1484280"/>
            <a:ext cx="8588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箱ひげ図の強み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順序統計量だけで書ける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ヒストグラム：度数分布表（データの集計）が必要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複数のデータ・層別データを比較するときに便利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ヒストグラムの強み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複数のピーク（山・峰）を持つデータ分布を表現できる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箱ひげ図：箱がひげより長く、いびつなグラフにな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分布状態（山・最頻値）がより良く分かる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656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２つの山があるデータ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20" name="図 3" descr=""/>
          <p:cNvPicPr/>
          <p:nvPr/>
        </p:nvPicPr>
        <p:blipFill>
          <a:blip r:embed="rId1"/>
          <a:stretch/>
        </p:blipFill>
        <p:spPr>
          <a:xfrm>
            <a:off x="4567320" y="2924280"/>
            <a:ext cx="4181400" cy="3060720"/>
          </a:xfrm>
          <a:prstGeom prst="rect">
            <a:avLst/>
          </a:prstGeom>
          <a:ln w="0">
            <a:noFill/>
          </a:ln>
        </p:spPr>
      </p:pic>
      <p:pic>
        <p:nvPicPr>
          <p:cNvPr id="521" name="図 4" descr=""/>
          <p:cNvPicPr/>
          <p:nvPr/>
        </p:nvPicPr>
        <p:blipFill>
          <a:blip r:embed="rId2"/>
          <a:stretch/>
        </p:blipFill>
        <p:spPr>
          <a:xfrm>
            <a:off x="358920" y="2924280"/>
            <a:ext cx="41814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6656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とヒストグラム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68360" y="1268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足の大きさを、性別・年齢別で比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ヒストグラムを描くと結構面倒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６種類描く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色分けをする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524" name="図 6" descr=""/>
          <p:cNvPicPr/>
          <p:nvPr/>
        </p:nvPicPr>
        <p:blipFill>
          <a:blip r:embed="rId1"/>
          <a:stretch/>
        </p:blipFill>
        <p:spPr>
          <a:xfrm>
            <a:off x="3780000" y="2492280"/>
            <a:ext cx="49068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ookman Old Style"/>
              </a:rPr>
              <a:t>分散と標準偏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データ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27" name="図 5" descr=""/>
          <p:cNvPicPr/>
          <p:nvPr/>
        </p:nvPicPr>
        <p:blipFill>
          <a:blip r:embed="rId1"/>
          <a:stretch/>
        </p:blipFill>
        <p:spPr>
          <a:xfrm>
            <a:off x="4143240" y="3714840"/>
            <a:ext cx="4287960" cy="1428840"/>
          </a:xfrm>
          <a:prstGeom prst="rect">
            <a:avLst/>
          </a:prstGeom>
          <a:ln w="0">
            <a:noFill/>
          </a:ln>
        </p:spPr>
      </p:pic>
      <p:pic>
        <p:nvPicPr>
          <p:cNvPr id="528" name="図 7" descr=""/>
          <p:cNvPicPr/>
          <p:nvPr/>
        </p:nvPicPr>
        <p:blipFill>
          <a:blip r:embed="rId2"/>
          <a:stretch/>
        </p:blipFill>
        <p:spPr>
          <a:xfrm>
            <a:off x="428760" y="500040"/>
            <a:ext cx="2786040" cy="5975280"/>
          </a:xfrm>
          <a:prstGeom prst="rect">
            <a:avLst/>
          </a:prstGeom>
          <a:ln w="0">
            <a:noFill/>
          </a:ln>
        </p:spPr>
      </p:pic>
      <p:sp>
        <p:nvSpPr>
          <p:cNvPr id="529" name="テキスト ボックス 8"/>
          <p:cNvSpPr/>
          <p:nvPr/>
        </p:nvSpPr>
        <p:spPr>
          <a:xfrm>
            <a:off x="4000680" y="17146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東京と那覇の気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データ例（ヒストグラム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31" name="グラフ 4" descr=""/>
          <p:cNvPicPr/>
          <p:nvPr/>
        </p:nvPicPr>
        <p:blipFill>
          <a:blip r:embed="rId1"/>
          <a:stretch/>
        </p:blipFill>
        <p:spPr>
          <a:xfrm>
            <a:off x="281160" y="1573200"/>
            <a:ext cx="4290840" cy="4784760"/>
          </a:xfrm>
          <a:prstGeom prst="rect">
            <a:avLst/>
          </a:prstGeom>
          <a:ln w="0">
            <a:noFill/>
          </a:ln>
        </p:spPr>
      </p:pic>
      <p:pic>
        <p:nvPicPr>
          <p:cNvPr id="532" name="グラフ 5" descr=""/>
          <p:cNvPicPr/>
          <p:nvPr/>
        </p:nvPicPr>
        <p:blipFill>
          <a:blip r:embed="rId2"/>
          <a:stretch/>
        </p:blipFill>
        <p:spPr>
          <a:xfrm>
            <a:off x="4638600" y="1573200"/>
            <a:ext cx="42926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世の中には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50560" y="1268280"/>
            <a:ext cx="87138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ヒストグラムを作ると、形が違うデータセットが多々あります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細長かったりぺたんこだったり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「データのバラツキ具合（散布度）」が違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そのような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『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違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』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を表す統計量はあるだろうか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一々ヒストグラムで表していたら、スペースがもったいない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平均からの距離（偏差）であらわす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プラスマイナスの効果を打ち消すことを忘れずに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偏差平方和（変動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6784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から、データの平均を引いて２乗したものの総和（２乗平均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「平均からのズレ」の総和を表す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からデータの平均を引いたものの総和は０になってしまうので、「平均からのズレ」の指標に適さない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偏差平方和は、データの大きさが大きいほど、大きくなってしま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1066680" y="5030640"/>
            <a:ext cx="755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分散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rcRect l="-3329" t="-9766" r="-3329" b="-9766"/>
          <a:stretch/>
        </p:blipFill>
        <p:spPr>
          <a:xfrm>
            <a:off x="1898640" y="2050920"/>
            <a:ext cx="5094360" cy="19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0" name="Picture 4" descr=""/>
          <p:cNvPicPr/>
          <p:nvPr/>
        </p:nvPicPr>
        <p:blipFill>
          <a:blip r:embed="rId2"/>
          <a:stretch/>
        </p:blipFill>
        <p:spPr>
          <a:xfrm>
            <a:off x="1219320" y="5181480"/>
            <a:ext cx="65275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5072040" y="4857840"/>
            <a:ext cx="3200400" cy="520560"/>
          </a:xfrm>
          <a:prstGeom prst="rect">
            <a:avLst/>
          </a:prstGeom>
          <a:noFill/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散の正の平方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1"/>
          <a:srcRect l="-2278" t="-7633" r="-2278" b="-7633"/>
          <a:stretch/>
        </p:blipFill>
        <p:spPr>
          <a:xfrm>
            <a:off x="2000160" y="3143160"/>
            <a:ext cx="4411800" cy="145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4" name="Text Box 5"/>
          <p:cNvSpPr/>
          <p:nvPr/>
        </p:nvSpPr>
        <p:spPr>
          <a:xfrm>
            <a:off x="357120" y="17859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散は、データから平均を引い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乗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しているから、測定単位も２乗にな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テキスト ボックス 5"/>
          <p:cNvSpPr/>
          <p:nvPr/>
        </p:nvSpPr>
        <p:spPr>
          <a:xfrm>
            <a:off x="4357800" y="57150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測定単位が平均と同じ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代表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268280"/>
            <a:ext cx="82296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分布の中心を表す数値（統計量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平均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最頻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表から分散を計算す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11280" y="1267920"/>
            <a:ext cx="799920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度数分布表から分散を計算するには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平均値を計算す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階級値から平均値を引いて２乗し、度数をかけ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それを合計す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データの総数で割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計算例１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095880" y="2017800"/>
            <a:ext cx="243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平均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偏差平方和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分散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.8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標準偏差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5486400" cy="5684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5486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計算例２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53" name="図 8" descr=""/>
          <p:cNvPicPr/>
          <p:nvPr/>
        </p:nvPicPr>
        <p:blipFill>
          <a:blip r:embed="rId1"/>
          <a:stretch/>
        </p:blipFill>
        <p:spPr>
          <a:xfrm>
            <a:off x="2052720" y="2744640"/>
            <a:ext cx="3514680" cy="243540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4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図 11" descr=""/>
          <p:cNvPicPr/>
          <p:nvPr/>
        </p:nvPicPr>
        <p:blipFill>
          <a:blip r:embed="rId2"/>
          <a:stretch/>
        </p:blipFill>
        <p:spPr>
          <a:xfrm>
            <a:off x="500040" y="1285920"/>
            <a:ext cx="7950240" cy="2089080"/>
          </a:xfrm>
          <a:prstGeom prst="rect">
            <a:avLst/>
          </a:prstGeom>
          <a:ln w="0">
            <a:noFill/>
          </a:ln>
        </p:spPr>
      </p:pic>
      <p:sp>
        <p:nvSpPr>
          <p:cNvPr id="556" name="テキスト ボックス 12"/>
          <p:cNvSpPr/>
          <p:nvPr/>
        </p:nvSpPr>
        <p:spPr>
          <a:xfrm>
            <a:off x="1500120" y="4143240"/>
            <a:ext cx="614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平均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÷10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散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÷10=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標準偏差：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8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の意味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79280" y="1341000"/>
            <a:ext cx="878544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データの、平均からの散らばりを評価する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データの、平均値からの離れ方を平均したもの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大きいほうに離れようが、小さいほうに離れようが、どちらも正の数として評価し、打ち消しあわないように平均してい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ヒストグラムと分散・標準偏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60" name="グラフ 3" descr=""/>
          <p:cNvPicPr/>
          <p:nvPr/>
        </p:nvPicPr>
        <p:blipFill>
          <a:blip r:embed="rId1"/>
          <a:stretch/>
        </p:blipFill>
        <p:spPr>
          <a:xfrm>
            <a:off x="798480" y="1371600"/>
            <a:ext cx="3432240" cy="1859040"/>
          </a:xfrm>
          <a:prstGeom prst="rect">
            <a:avLst/>
          </a:prstGeom>
          <a:ln w="0">
            <a:noFill/>
          </a:ln>
        </p:spPr>
      </p:pic>
      <p:pic>
        <p:nvPicPr>
          <p:cNvPr id="561" name="グラフ 4" descr=""/>
          <p:cNvPicPr/>
          <p:nvPr/>
        </p:nvPicPr>
        <p:blipFill>
          <a:blip r:embed="rId2"/>
          <a:stretch/>
        </p:blipFill>
        <p:spPr>
          <a:xfrm>
            <a:off x="4443480" y="1371600"/>
            <a:ext cx="3481200" cy="1785960"/>
          </a:xfrm>
          <a:prstGeom prst="rect">
            <a:avLst/>
          </a:prstGeom>
          <a:ln w="0">
            <a:noFill/>
          </a:ln>
        </p:spPr>
      </p:pic>
      <p:pic>
        <p:nvPicPr>
          <p:cNvPr id="562" name="グラフ 5" descr=""/>
          <p:cNvPicPr/>
          <p:nvPr/>
        </p:nvPicPr>
        <p:blipFill>
          <a:blip r:embed="rId3"/>
          <a:stretch/>
        </p:blipFill>
        <p:spPr>
          <a:xfrm>
            <a:off x="871560" y="3876840"/>
            <a:ext cx="3286080" cy="1785600"/>
          </a:xfrm>
          <a:prstGeom prst="rect">
            <a:avLst/>
          </a:prstGeom>
          <a:ln w="0">
            <a:noFill/>
          </a:ln>
        </p:spPr>
      </p:pic>
      <p:pic>
        <p:nvPicPr>
          <p:cNvPr id="563" name="グラフ 6" descr=""/>
          <p:cNvPicPr/>
          <p:nvPr/>
        </p:nvPicPr>
        <p:blipFill>
          <a:blip r:embed="rId4"/>
          <a:stretch/>
        </p:blipFill>
        <p:spPr>
          <a:xfrm>
            <a:off x="4657680" y="3943440"/>
            <a:ext cx="3359160" cy="1787400"/>
          </a:xfrm>
          <a:prstGeom prst="rect">
            <a:avLst/>
          </a:prstGeom>
          <a:ln w="0">
            <a:noFill/>
          </a:ln>
        </p:spPr>
      </p:pic>
      <p:sp>
        <p:nvSpPr>
          <p:cNvPr id="564" name="テキスト ボックス 7"/>
          <p:cNvSpPr/>
          <p:nvPr/>
        </p:nvSpPr>
        <p:spPr>
          <a:xfrm>
            <a:off x="1085760" y="323064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テキスト ボックス 8"/>
          <p:cNvSpPr/>
          <p:nvPr/>
        </p:nvSpPr>
        <p:spPr>
          <a:xfrm>
            <a:off x="4729320" y="32306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テキスト ボックス 9"/>
          <p:cNvSpPr/>
          <p:nvPr/>
        </p:nvSpPr>
        <p:spPr>
          <a:xfrm>
            <a:off x="1014480" y="565956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4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テキスト ボックス 10"/>
          <p:cNvSpPr/>
          <p:nvPr/>
        </p:nvSpPr>
        <p:spPr>
          <a:xfrm>
            <a:off x="5086440" y="565956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9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　どっちが大きい？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50560" y="4797360"/>
            <a:ext cx="85690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も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もデータの分布範囲が一緒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左右対称だから平均も一緒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は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や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偏差を持つデータが多い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082680" cy="29955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" descr=""/>
          <p:cNvPicPr/>
          <p:nvPr/>
        </p:nvPicPr>
        <p:blipFill>
          <a:blip r:embed="rId2"/>
          <a:stretch/>
        </p:blipFill>
        <p:spPr>
          <a:xfrm>
            <a:off x="5364000" y="1773360"/>
            <a:ext cx="3097440" cy="3095640"/>
          </a:xfrm>
          <a:prstGeom prst="rect">
            <a:avLst/>
          </a:prstGeom>
          <a:ln w="0">
            <a:noFill/>
          </a:ln>
        </p:spPr>
      </p:pic>
      <p:sp>
        <p:nvSpPr>
          <p:cNvPr id="572" name="四角形吹き出し 5"/>
          <p:cNvSpPr/>
          <p:nvPr/>
        </p:nvSpPr>
        <p:spPr>
          <a:xfrm>
            <a:off x="2916360" y="1125360"/>
            <a:ext cx="5111640" cy="648000"/>
          </a:xfrm>
          <a:prstGeom prst="wedgeRectCallout">
            <a:avLst>
              <a:gd name="adj1" fmla="val 29490"/>
              <a:gd name="adj2" fmla="val 86972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標準偏差が大き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　どっちが大きい？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25440" y="4797000"/>
            <a:ext cx="8569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偏差は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では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偏差を持つデータは全体の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/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分散は、偏差の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乗の平均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192480" cy="31640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3073320" cy="3073320"/>
          </a:xfrm>
          <a:prstGeom prst="rect">
            <a:avLst/>
          </a:prstGeom>
          <a:ln w="0">
            <a:noFill/>
          </a:ln>
        </p:spPr>
      </p:pic>
      <p:sp>
        <p:nvSpPr>
          <p:cNvPr id="577" name="四角形吹き出し 4"/>
          <p:cNvSpPr/>
          <p:nvPr/>
        </p:nvSpPr>
        <p:spPr>
          <a:xfrm>
            <a:off x="3780000" y="1197000"/>
            <a:ext cx="5111640" cy="647640"/>
          </a:xfrm>
          <a:prstGeom prst="wedgeRectCallout">
            <a:avLst>
              <a:gd name="adj1" fmla="val -13439"/>
              <a:gd name="adj2" fmla="val 83208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標準偏差が大き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6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　どっちが大きい？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11280" y="5116320"/>
            <a:ext cx="777240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どちらも同じ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同じデータについて、横軸の長さを変えたもの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0" name="グラフ 3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3236760" cy="2743200"/>
          </a:xfrm>
          <a:prstGeom prst="rect">
            <a:avLst/>
          </a:prstGeom>
          <a:ln w="0">
            <a:noFill/>
          </a:ln>
        </p:spPr>
      </p:pic>
      <p:pic>
        <p:nvPicPr>
          <p:cNvPr id="581" name="グラフ 4" descr=""/>
          <p:cNvPicPr/>
          <p:nvPr/>
        </p:nvPicPr>
        <p:blipFill>
          <a:blip r:embed="rId2"/>
          <a:stretch/>
        </p:blipFill>
        <p:spPr>
          <a:xfrm>
            <a:off x="5078520" y="2133720"/>
            <a:ext cx="3236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２標準偏差ルール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23640" y="1268280"/>
            <a:ext cx="85676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正規分布に従うデータでは、平均から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±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２標準偏差の範囲内に収まるデータ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例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点満点のテス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平均は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70</a:t>
            </a: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、標準偏差が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5</a:t>
            </a:r>
            <a:endParaRPr b="0" lang="en-US" sz="24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このテストを受けた人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は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6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8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を取っ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8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以上取った人は全体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しかいない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6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も取れなかった人は全体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平均は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70</a:t>
            </a: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、標準偏差が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このテストを受けた人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は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を取っ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以上取った人は全体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も取れなかった人も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い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9" dur="50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0" dur="500"/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5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5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グラフにすると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85" name="グラフ 3" descr=""/>
          <p:cNvPicPr/>
          <p:nvPr/>
        </p:nvPicPr>
        <p:blipFill>
          <a:blip r:embed="rId1"/>
          <a:stretch/>
        </p:blipFill>
        <p:spPr>
          <a:xfrm>
            <a:off x="469800" y="2133720"/>
            <a:ext cx="8131320" cy="4389480"/>
          </a:xfrm>
          <a:prstGeom prst="rect">
            <a:avLst/>
          </a:prstGeom>
          <a:ln w="0">
            <a:noFill/>
          </a:ln>
        </p:spPr>
      </p:pic>
      <p:sp>
        <p:nvSpPr>
          <p:cNvPr id="586" name="直線コネクタ 5"/>
          <p:cNvSpPr/>
          <p:nvPr/>
        </p:nvSpPr>
        <p:spPr>
          <a:xfrm>
            <a:off x="6156360" y="1844640"/>
            <a:ext cx="0" cy="482436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散布度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341000"/>
            <a:ext cx="82296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分布の広がり具合を表す数値（統計量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分散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標準偏差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偏差平方和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レンジ（範囲）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四分位範囲・四分位偏差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偏差値の話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42600" y="2017800"/>
            <a:ext cx="831204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偏差値：データを平均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5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、標準偏差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になるように加工したもの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F3B7-206F-452D-9F71-A513AB377B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図 1" descr="%takaTeX&#13;&#10;\documentclass{jarticle}&#13;&#10;\usepackage{color}\pagestyle{empty}&#13;&#10;\begin{document}\LARGE\color{black}&#13;&#10;$$&#13;&#10;偏差値=\frac{得点x-平均\mu}{標準偏差\sigma}\times 10+50&#13;&#10;$$&#13;&#10;\end{document}&#13;&#10;"/>
          <p:cNvPicPr/>
          <p:nvPr/>
        </p:nvPicPr>
        <p:blipFill>
          <a:blip r:embed="rId1"/>
          <a:stretch/>
        </p:blipFill>
        <p:spPr>
          <a:xfrm>
            <a:off x="971640" y="3284640"/>
            <a:ext cx="7391160" cy="1152360"/>
          </a:xfrm>
          <a:prstGeom prst="rect">
            <a:avLst/>
          </a:prstGeom>
          <a:ln w="0">
            <a:noFill/>
          </a:ln>
        </p:spPr>
      </p:pic>
      <p:sp>
        <p:nvSpPr>
          <p:cNvPr id="591" name="正方形/長方形 3"/>
          <p:cNvSpPr/>
          <p:nvPr/>
        </p:nvSpPr>
        <p:spPr>
          <a:xfrm>
            <a:off x="2916360" y="3141720"/>
            <a:ext cx="3240000" cy="143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角丸四角形吹き出し 4"/>
          <p:cNvSpPr/>
          <p:nvPr/>
        </p:nvSpPr>
        <p:spPr>
          <a:xfrm>
            <a:off x="3059280" y="5084640"/>
            <a:ext cx="3744720" cy="720720"/>
          </a:xfrm>
          <a:prstGeom prst="wedgeRoundRectCallout">
            <a:avLst>
              <a:gd name="adj1" fmla="val -18768"/>
              <a:gd name="adj2" fmla="val -118277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ahoma"/>
              </a:rPr>
              <a:t>標準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化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3520" y="1341000"/>
            <a:ext cx="80769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を、（データ－平均値）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÷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標準偏差で加工すると、できたデータの平均と標準偏差は以下のようにな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平均＝０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標準偏差＝１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sp>
        <p:nvSpPr>
          <p:cNvPr id="595" name="AutoShape 1028"/>
          <p:cNvSpPr/>
          <p:nvPr/>
        </p:nvSpPr>
        <p:spPr>
          <a:xfrm>
            <a:off x="3657600" y="3859200"/>
            <a:ext cx="14479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029"/>
          <p:cNvSpPr/>
          <p:nvPr/>
        </p:nvSpPr>
        <p:spPr>
          <a:xfrm>
            <a:off x="2743200" y="5072040"/>
            <a:ext cx="32767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標準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レポート２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7200" y="1268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から平均、中央値、分散、標準偏差を計算す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度数分布表から平均、分散、標準偏差を計算す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相対度数・累積度数の計算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ヒストグラムの作成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箱ひげ図の作成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テキスト ボックス 3"/>
          <p:cNvSpPr/>
          <p:nvPr/>
        </p:nvSpPr>
        <p:spPr>
          <a:xfrm>
            <a:off x="934920" y="5499000"/>
            <a:ext cx="7272360" cy="64260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締切：「統計学」試験終了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「変動」をみ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48392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ISA2021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数学フレームワーク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数学的推論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(Mathematical Reasoning)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と問題解決（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Modeling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）サイクルと関連する数学リテラシーの基本概念に基づいて評価の理論的基盤を定義している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数学的推論に必要な力の一つが「変動を統計の中心として理解する力」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「変動」をみるためのツール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39280" y="1341000"/>
            <a:ext cx="8147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偏差平方和・分散・標準偏差・変動係数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分散共分散行列・相関係数（行列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範囲・四分位範囲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ヒストグラ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箱ひげ図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確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77" name="吹き出し: 角を丸めた四角形 3"/>
          <p:cNvGrpSpPr/>
          <p:nvPr/>
        </p:nvGrpSpPr>
        <p:grpSpPr>
          <a:xfrm>
            <a:off x="2554200" y="3164040"/>
            <a:ext cx="6388200" cy="3322440"/>
            <a:chOff x="2554200" y="3164040"/>
            <a:chExt cx="6388200" cy="3322440"/>
          </a:xfrm>
        </p:grpSpPr>
        <p:pic>
          <p:nvPicPr>
            <p:cNvPr id="378" name="吹き出し: 角を丸めた四角形 3" descr=""/>
            <p:cNvPicPr/>
            <p:nvPr/>
          </p:nvPicPr>
          <p:blipFill>
            <a:blip r:embed="rId1"/>
            <a:stretch/>
          </p:blipFill>
          <p:spPr>
            <a:xfrm>
              <a:off x="2554200" y="3164040"/>
              <a:ext cx="6388200" cy="33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2757600" y="3701880"/>
              <a:ext cx="5983200" cy="23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YuMincho-Regular"/>
                </a:rPr>
                <a:t>統計が提供する変動を伴う真実は、数学が提供する真実とは異なり、確率的文脈で設定された真実の推定値であるため、可能な値の範囲を提示するだけで、意思決定者には真実が何であるかを確実に知ることはできない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「変動」と意思決定の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341360"/>
            <a:ext cx="43768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面接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r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実技試験によって高校生を評価す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面接・実技試験は基本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回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面接・実技試験で「たまたま」実力が出せなかった場合もあるか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回だけの面接・実技試験の結果」をそのまま「その人の実力」と評価して良いか？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2" name="図 3" descr=""/>
          <p:cNvPicPr/>
          <p:nvPr/>
        </p:nvPicPr>
        <p:blipFill>
          <a:blip r:embed="rId1"/>
          <a:stretch/>
        </p:blipFill>
        <p:spPr>
          <a:xfrm>
            <a:off x="5253120" y="1920960"/>
            <a:ext cx="2752560" cy="2143080"/>
          </a:xfrm>
          <a:prstGeom prst="rect">
            <a:avLst/>
          </a:prstGeom>
          <a:ln w="0">
            <a:noFill/>
          </a:ln>
        </p:spPr>
      </p:pic>
      <p:grpSp>
        <p:nvGrpSpPr>
          <p:cNvPr id="383" name="吹き出し: 角を丸めた四角形 4"/>
          <p:cNvGrpSpPr/>
          <p:nvPr/>
        </p:nvGrpSpPr>
        <p:grpSpPr>
          <a:xfrm>
            <a:off x="4761000" y="3846600"/>
            <a:ext cx="3316320" cy="1560600"/>
            <a:chOff x="4761000" y="3846600"/>
            <a:chExt cx="3316320" cy="1560600"/>
          </a:xfrm>
        </p:grpSpPr>
        <p:pic>
          <p:nvPicPr>
            <p:cNvPr id="384" name="吹き出し: 角を丸めた四角形 4" descr=""/>
            <p:cNvPicPr/>
            <p:nvPr/>
          </p:nvPicPr>
          <p:blipFill>
            <a:blip r:embed="rId2"/>
            <a:stretch/>
          </p:blipFill>
          <p:spPr>
            <a:xfrm>
              <a:off x="4761000" y="3846600"/>
              <a:ext cx="331632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4876920" y="4368960"/>
              <a:ext cx="308592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「たまたま」ここ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出てきた可能性は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5:51:00Z</dcterms:created>
  <dc:creator/>
  <dc:description/>
  <dc:language>en-US</dc:language>
  <cp:lastModifiedBy/>
  <dcterms:modified xsi:type="dcterms:W3CDTF">2020-09-04T05:46:2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571041</vt:lpwstr>
  </property>
</Properties>
</file>